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13.png" ContentType="image/png"/>
  <Override PartName="/ppt/media/image10.png" ContentType="image/png"/>
  <Override PartName="/ppt/media/image5.wmf" ContentType="image/x-wmf"/>
  <Override PartName="/ppt/media/image6.jpeg" ContentType="image/jpe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D61E-3E82-4627-9D58-03C6803EFA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9952A-B11B-41F1-844E-4034B86674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8BD6-2F8D-4005-A5AA-F613572BD18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647E-06F5-4F5D-B7BE-6CEB1D9816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02BA-67E2-4F33-880D-2FF6BFA5FE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EDEB-B6B1-408F-8E62-EAD85A90BB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1670-0F72-4639-88D7-43F56C9CF6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B229-E0C6-47D7-A3A0-F45A70AF51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5DEB-CD2F-4D99-99ED-DBF7532061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477A-B0F4-4223-9282-58375F89273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1A3-5401-4E5F-ADCA-81AD357C598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9F1FF-FDB0-4969-B25A-B8C0AE96E5C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192A-2DA7-44B0-8C37-4747E6E2E72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373C-95A4-4285-9851-A6923D5099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86B6-B8C7-4CFE-BF41-5D9BC6F2F36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7E54-14CB-41FC-9FCA-AAB6E02470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C8AFB-DAD9-443D-A295-94477270741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DF70-39B2-4B4F-8B84-498E0B94FF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667A-BD9D-471F-B352-590DF1E2D5D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DB53-C80F-4A89-98A6-B0955D8FB2C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31D6-9710-432B-9F69-08CC4FD5AF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BDCC4-613D-48A6-A756-52B74F10A3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037-C563-4096-82EB-E35D8E0B3D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E986-FCBD-4219-8F34-9DD233036DB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885F-697B-486E-91AB-BEDD7662C9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92B-505E-4DA7-9AF0-D8AF136211A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03400" y="86832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722840"/>
            <a:ext cx="502920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D779-833C-4838-ADCE-458B4E15D3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71B4-398B-489C-81B0-55755668E7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E8F7-A83A-43FE-9D30-7A79FA0221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64BF-937B-41B3-9F9A-FFF5FF551CE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C2A5-1168-4F63-B59D-41AA250546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1E37-D49F-4AFC-9228-E72CDA4D80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E435-DEFE-4EB9-A08A-0E9EDB5164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382F-DC82-42C5-A560-7FBAB8B4D35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0544-C7A0-4CDA-9E2A-37CC09F2B89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94C7-073F-4EDE-AB9A-B182C70EFA2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4AAC-49CD-4A83-8DE6-76898BCDD43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494B-B004-4831-8280-AEAD3471E4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7D4-CF7D-4B5E-B220-77BA72F1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D200-2B7C-4835-84E0-3D6D0B6F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1E0E-EA0D-4674-A887-947AD5FF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D1E-2C9F-4135-8D26-638C82A3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7F39-A08C-462F-B129-3A5C176A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2994-44FB-4D51-9DA1-FF130320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F86F-B4F7-4FD0-BC46-241B74D9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E8CD-A842-48E5-B449-726BCD85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DE11-A347-4030-942F-76D8408C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181B2-20A5-4F7E-9AD0-34D0685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9843-94F2-4D8E-AD2E-27C1FC01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D812-B1AB-4858-91B0-FCC1D664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B4DD-004B-4308-8C13-27087A96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CD72-42C4-41EE-9E48-8B6F20C8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5140-B15E-4448-A27D-C7333F7D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BECF-9411-49EE-85B4-C50CCB77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3C2E-0A7C-4B4C-94C3-03B84233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E3A3-39B0-4EF7-AF3F-3704A16E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6205-F8DD-424D-9B90-B9D8C319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EECC-4338-4FAB-A75E-B4C43CF5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DB1E5-B7C0-4092-A910-73D0F133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48B0E-4C1D-4A50-BC0D-D98F42F6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1C7-D149-4DD1-AE0A-0995D6F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DDA9-7EE1-4253-9AB6-8F4C5146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C7F7-34FE-43B4-9682-48C0744C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5D4F7-DD6D-4025-AD04-CFC932A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33C85-16DC-49A8-8E70-624C2FC8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F0E3-2153-4405-99AC-16F9338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6EF0-1682-4D6B-8A04-D43977AA0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BF643-3A41-474B-B532-8FF515CB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C01A-592B-466B-9471-97C87EA2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EF5-17F9-4921-BCA1-89DE98F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B50-192A-42E6-B914-01924A87A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AAE-6589-439C-8EC4-66DD8C01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2B6-1D99-4275-94DB-11FDED19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9D7-FD0E-4D16-B81C-DD5A2A3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D5E2-0E1A-41DC-A7A4-6AE7A6269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E561-5828-467E-BF8A-306E5E17A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DEC-4C8A-4CB9-AA53-5760618C7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hyperlink" Target="http://xbeams.chem.yale.edu/~batista/113/movies/06m04an1.mov" TargetMode="External"/><Relationship Id="rId5" Type="http://schemas.openxmlformats.org/officeDocument/2006/relationships/image" Target="../media/image10.png"/><Relationship Id="rId6" Type="http://schemas.openxmlformats.org/officeDocument/2006/relationships/oleObject" Target="../embeddings/oleObject2.bin"/><Relationship Id="rId7" Type="http://schemas.openxmlformats.org/officeDocument/2006/relationships/hyperlink" Target="http://xbeams.chem.yale.edu/~batista/113/movies/06m04an2.mov" TargetMode="External"/><Relationship Id="rId8" Type="http://schemas.openxmlformats.org/officeDocument/2006/relationships/image" Target="../media/image11.png"/><Relationship Id="rId9" Type="http://schemas.openxmlformats.org/officeDocument/2006/relationships/oleObject" Target="../embeddings/oleObject3.bin"/><Relationship Id="rId10" Type="http://schemas.openxmlformats.org/officeDocument/2006/relationships/hyperlink" Target="http://xbeams.chem.yale.edu/~batista/113/movies/06m04an3.mov" TargetMode="External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25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ОСНОВНЕ ФИЗИЧКЕ ВЕЛИЧИНЕ И РЕДОВИ ВЕЛИЧИНА</a:t>
            </a:r>
            <a:br>
              <a:rPr sz="4800"/>
            </a:b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Брзин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убрзање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сил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4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7663320" y="645804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1.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ubtitle 2"/>
          <p:cNvSpPr/>
          <p:nvPr/>
        </p:nvSpPr>
        <p:spPr>
          <a:xfrm>
            <a:off x="1149480" y="4148280"/>
            <a:ext cx="69847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Доц. др Снежана Јовановић Сте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alibri"/>
                <a:ea typeface="Arial"/>
              </a:rPr>
              <a:t>2022/23.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3"/>
          <p:cNvSpPr/>
          <p:nvPr/>
        </p:nvSpPr>
        <p:spPr>
          <a:xfrm>
            <a:off x="0" y="0"/>
            <a:ext cx="892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 зависи само од почетне и финалне позиције – померај је вектор јер има правац, смер и величи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4286160" y="4714920"/>
                <a:ext cx="2071800" cy="17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TextBox 8"/>
          <p:cNvSpPr/>
          <p:nvPr/>
        </p:nvSpPr>
        <p:spPr>
          <a:xfrm>
            <a:off x="214200" y="2637000"/>
            <a:ext cx="8929800" cy="1800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количник пређеног пута и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и карактерише је интензитет, правац и см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је векторска величина, јер је карактерише правац, смер и величина-интензит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2859120" y="2141640"/>
            <a:ext cx="274680" cy="27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Straight Arrow Connector 15"/>
          <p:cNvCxnSpPr/>
          <p:nvPr/>
        </p:nvCxnSpPr>
        <p:spPr>
          <a:xfrm flipV="1">
            <a:off x="2999160" y="1142280"/>
            <a:ext cx="252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7" name="Straight Arrow Connector 16"/>
          <p:cNvCxnSpPr/>
          <p:nvPr/>
        </p:nvCxnSpPr>
        <p:spPr>
          <a:xfrm flipV="1">
            <a:off x="3002040" y="1426320"/>
            <a:ext cx="64332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8" name="Straight Arrow Connector 18"/>
          <p:cNvCxnSpPr/>
          <p:nvPr/>
        </p:nvCxnSpPr>
        <p:spPr>
          <a:xfrm flipH="1" flipV="1">
            <a:off x="2072880" y="997920"/>
            <a:ext cx="92952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9" name="Straight Arrow Connector 20"/>
          <p:cNvCxnSpPr/>
          <p:nvPr/>
        </p:nvCxnSpPr>
        <p:spPr>
          <a:xfrm>
            <a:off x="2858760" y="2252160"/>
            <a:ext cx="857880" cy="17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0" name="Oval 9"/>
          <p:cNvSpPr/>
          <p:nvPr/>
        </p:nvSpPr>
        <p:spPr>
          <a:xfrm>
            <a:off x="2001960" y="6141960"/>
            <a:ext cx="274680" cy="2746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Straight Arrow Connector 10"/>
          <p:cNvCxnSpPr/>
          <p:nvPr/>
        </p:nvCxnSpPr>
        <p:spPr>
          <a:xfrm flipV="1">
            <a:off x="2142000" y="5142960"/>
            <a:ext cx="2520" cy="1143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2" name="Straight Arrow Connector 11"/>
          <p:cNvCxnSpPr/>
          <p:nvPr/>
        </p:nvCxnSpPr>
        <p:spPr>
          <a:xfrm flipV="1">
            <a:off x="2143800" y="5427360"/>
            <a:ext cx="643320" cy="714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3" name="Straight Arrow Connector 12"/>
          <p:cNvCxnSpPr/>
          <p:nvPr/>
        </p:nvCxnSpPr>
        <p:spPr>
          <a:xfrm flipH="1" flipV="1">
            <a:off x="1215720" y="4998600"/>
            <a:ext cx="929520" cy="1215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4" name="Straight Arrow Connector 14"/>
          <p:cNvCxnSpPr/>
          <p:nvPr/>
        </p:nvCxnSpPr>
        <p:spPr>
          <a:xfrm>
            <a:off x="2001600" y="6252840"/>
            <a:ext cx="857880" cy="175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25" name="Rectangle 17"/>
          <p:cNvSpPr/>
          <p:nvPr/>
        </p:nvSpPr>
        <p:spPr>
          <a:xfrm>
            <a:off x="7079760" y="5286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8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Брзина током кретања може бити непромењена или се током кретања може мењати, тело за исто време може савлађивати различита растоја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1"/>
          <p:cNvGrpSpPr/>
          <p:nvPr/>
        </p:nvGrpSpPr>
        <p:grpSpPr>
          <a:xfrm>
            <a:off x="0" y="1500120"/>
            <a:ext cx="8877240" cy="5487480"/>
            <a:chOff x="0" y="1500120"/>
            <a:chExt cx="8877240" cy="5487480"/>
          </a:xfrm>
        </p:grpSpPr>
        <p:cxnSp>
          <p:nvCxnSpPr>
            <p:cNvPr id="228" name="Straight Arrow Connector 6"/>
            <p:cNvCxnSpPr/>
            <p:nvPr/>
          </p:nvCxnSpPr>
          <p:spPr>
            <a:xfrm flipV="1">
              <a:off x="1712880" y="1571040"/>
              <a:ext cx="2160" cy="250272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29" name="Straight Arrow Connector 8"/>
            <p:cNvCxnSpPr/>
            <p:nvPr/>
          </p:nvCxnSpPr>
          <p:spPr>
            <a:xfrm>
              <a:off x="1714320" y="4000320"/>
              <a:ext cx="6501600" cy="21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230" name="Freeform 10"/>
            <p:cNvSpPr/>
            <p:nvPr/>
          </p:nvSpPr>
          <p:spPr>
            <a:xfrm>
              <a:off x="2865240" y="2350800"/>
              <a:ext cx="5433840" cy="1647720"/>
            </a:xfrm>
            <a:custGeom>
              <a:avLst/>
              <a:gdLst/>
              <a:ahLst/>
              <a:rect l="l" t="t" r="r" b="b"/>
              <a:pathLst>
                <a:path w="5433848" h="1647496">
                  <a:moveTo>
                    <a:pt x="26276" y="1644868"/>
                  </a:moveTo>
                  <a:cubicBezTo>
                    <a:pt x="0" y="1647496"/>
                    <a:pt x="89338" y="1629103"/>
                    <a:pt x="89338" y="1629103"/>
                  </a:cubicBezTo>
                  <a:cubicBezTo>
                    <a:pt x="204952" y="1608082"/>
                    <a:pt x="512380" y="1579179"/>
                    <a:pt x="719959" y="1518744"/>
                  </a:cubicBezTo>
                  <a:cubicBezTo>
                    <a:pt x="927538" y="1458310"/>
                    <a:pt x="1072055" y="1418896"/>
                    <a:pt x="1334814" y="1266496"/>
                  </a:cubicBezTo>
                  <a:cubicBezTo>
                    <a:pt x="1597573" y="1114096"/>
                    <a:pt x="2007477" y="777765"/>
                    <a:pt x="2296511" y="604344"/>
                  </a:cubicBezTo>
                  <a:cubicBezTo>
                    <a:pt x="2585545" y="430923"/>
                    <a:pt x="2785242" y="320565"/>
                    <a:pt x="3069021" y="225972"/>
                  </a:cubicBezTo>
                  <a:cubicBezTo>
                    <a:pt x="3352800" y="131379"/>
                    <a:pt x="3689131" y="73572"/>
                    <a:pt x="3999186" y="36786"/>
                  </a:cubicBezTo>
                  <a:cubicBezTo>
                    <a:pt x="4309241" y="0"/>
                    <a:pt x="4690242" y="10510"/>
                    <a:pt x="4929352" y="5255"/>
                  </a:cubicBezTo>
                  <a:cubicBezTo>
                    <a:pt x="5168462" y="0"/>
                    <a:pt x="5301155" y="2627"/>
                    <a:pt x="5433848" y="525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Straight Connector 12"/>
            <p:cNvSpPr/>
            <p:nvPr/>
          </p:nvSpPr>
          <p:spPr>
            <a:xfrm flipV="1">
              <a:off x="2927160" y="1642320"/>
              <a:ext cx="1440" cy="235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traight Connector 13"/>
            <p:cNvSpPr/>
            <p:nvPr/>
          </p:nvSpPr>
          <p:spPr>
            <a:xfrm flipV="1">
              <a:off x="421488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Straight Connector 14"/>
            <p:cNvSpPr/>
            <p:nvPr/>
          </p:nvSpPr>
          <p:spPr>
            <a:xfrm flipV="1">
              <a:off x="528624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Straight Connector 15"/>
            <p:cNvSpPr/>
            <p:nvPr/>
          </p:nvSpPr>
          <p:spPr>
            <a:xfrm flipV="1">
              <a:off x="635796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Straight Connector 16"/>
            <p:cNvSpPr/>
            <p:nvPr/>
          </p:nvSpPr>
          <p:spPr>
            <a:xfrm flipV="1">
              <a:off x="7929720" y="1642680"/>
              <a:ext cx="1440" cy="2357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1003680" y="1642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, 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8146440" y="4143240"/>
              <a:ext cx="48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Box 19"/>
            <p:cNvSpPr/>
            <p:nvPr/>
          </p:nvSpPr>
          <p:spPr>
            <a:xfrm>
              <a:off x="1857240" y="1500120"/>
              <a:ext cx="92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ело у мир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Box 20"/>
            <p:cNvSpPr/>
            <p:nvPr/>
          </p:nvSpPr>
          <p:spPr>
            <a:xfrm>
              <a:off x="4214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31"/>
            <p:cNvSpPr/>
            <p:nvPr/>
          </p:nvSpPr>
          <p:spPr>
            <a:xfrm>
              <a:off x="272196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32"/>
            <p:cNvSpPr/>
            <p:nvPr/>
          </p:nvSpPr>
          <p:spPr>
            <a:xfrm>
              <a:off x="1650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3"/>
            <p:cNvSpPr/>
            <p:nvPr/>
          </p:nvSpPr>
          <p:spPr>
            <a:xfrm>
              <a:off x="507960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4"/>
            <p:cNvSpPr/>
            <p:nvPr/>
          </p:nvSpPr>
          <p:spPr>
            <a:xfrm>
              <a:off x="407952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35"/>
            <p:cNvSpPr/>
            <p:nvPr/>
          </p:nvSpPr>
          <p:spPr>
            <a:xfrm>
              <a:off x="6294240" y="4071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C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traight Connector 37"/>
            <p:cNvSpPr/>
            <p:nvPr/>
          </p:nvSpPr>
          <p:spPr>
            <a:xfrm>
              <a:off x="6357960" y="250020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traight Connector 41"/>
            <p:cNvSpPr/>
            <p:nvPr/>
          </p:nvSpPr>
          <p:spPr>
            <a:xfrm flipH="1" flipV="1">
              <a:off x="6357600" y="2357280"/>
              <a:ext cx="15714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Straight Connector 45"/>
            <p:cNvSpPr/>
            <p:nvPr/>
          </p:nvSpPr>
          <p:spPr>
            <a:xfrm flipH="1" flipV="1">
              <a:off x="5286240" y="242856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Straight Connector 47"/>
            <p:cNvSpPr/>
            <p:nvPr/>
          </p:nvSpPr>
          <p:spPr>
            <a:xfrm>
              <a:off x="528624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Straight Connector 49"/>
            <p:cNvSpPr/>
            <p:nvPr/>
          </p:nvSpPr>
          <p:spPr>
            <a:xfrm flipH="1" flipV="1">
              <a:off x="4214880" y="285732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traight Connector 52"/>
            <p:cNvSpPr/>
            <p:nvPr/>
          </p:nvSpPr>
          <p:spPr>
            <a:xfrm flipH="1" flipV="1">
              <a:off x="4214880" y="3643200"/>
              <a:ext cx="107136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eft Brace 53"/>
            <p:cNvSpPr/>
            <p:nvPr/>
          </p:nvSpPr>
          <p:spPr>
            <a:xfrm>
              <a:off x="3929040" y="2857320"/>
              <a:ext cx="331560" cy="78552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785520"/>
                <a:gd name="textAreaBottom" fmla="*/ 776880 h 785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380"/>
                    <a:pt x="10800" y="760"/>
                  </a:cubicBezTo>
                  <a:lnTo>
                    <a:pt x="10800" y="10040"/>
                  </a:lnTo>
                  <a:cubicBezTo>
                    <a:pt x="10800" y="10420"/>
                    <a:pt x="5400" y="10800"/>
                    <a:pt x="0" y="10800"/>
                  </a:cubicBezTo>
                  <a:cubicBezTo>
                    <a:pt x="5400" y="10800"/>
                    <a:pt x="10800" y="11180"/>
                    <a:pt x="10800" y="11560"/>
                  </a:cubicBezTo>
                  <a:lnTo>
                    <a:pt x="10800" y="20840"/>
                  </a:lnTo>
                  <a:cubicBezTo>
                    <a:pt x="10800" y="2122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eft Brace 54"/>
            <p:cNvSpPr/>
            <p:nvPr/>
          </p:nvSpPr>
          <p:spPr>
            <a:xfrm rot="10800000">
              <a:off x="7857720" y="2357280"/>
              <a:ext cx="331560" cy="14256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3600 h 142560"/>
                <a:gd name="textAreaBottom" fmla="*/ 138960 h 14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eft Brace 55"/>
            <p:cNvSpPr/>
            <p:nvPr/>
          </p:nvSpPr>
          <p:spPr>
            <a:xfrm>
              <a:off x="2571480" y="3643200"/>
              <a:ext cx="331560" cy="34740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347400"/>
                <a:gd name="textAreaBottom" fmla="*/ 338760 h 34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59"/>
                    <a:pt x="10800" y="1718"/>
                  </a:cubicBezTo>
                  <a:lnTo>
                    <a:pt x="10800" y="9082"/>
                  </a:lnTo>
                  <a:cubicBezTo>
                    <a:pt x="10800" y="9941"/>
                    <a:pt x="5400" y="10800"/>
                    <a:pt x="0" y="10800"/>
                  </a:cubicBezTo>
                  <a:cubicBezTo>
                    <a:pt x="5400" y="10800"/>
                    <a:pt x="10800" y="11659"/>
                    <a:pt x="10800" y="12518"/>
                  </a:cubicBezTo>
                  <a:lnTo>
                    <a:pt x="10800" y="19882"/>
                  </a:lnTo>
                  <a:cubicBezTo>
                    <a:pt x="10800" y="2074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Straight Connector 56"/>
            <p:cNvSpPr/>
            <p:nvPr/>
          </p:nvSpPr>
          <p:spPr>
            <a:xfrm flipH="1" flipV="1">
              <a:off x="2928600" y="3643200"/>
              <a:ext cx="12142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9"/>
            <p:cNvSpPr/>
            <p:nvPr/>
          </p:nvSpPr>
          <p:spPr>
            <a:xfrm>
              <a:off x="307188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рас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60"/>
            <p:cNvSpPr/>
            <p:nvPr/>
          </p:nvSpPr>
          <p:spPr>
            <a:xfrm>
              <a:off x="528624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61"/>
            <p:cNvSpPr/>
            <p:nvPr/>
          </p:nvSpPr>
          <p:spPr>
            <a:xfrm>
              <a:off x="6643800" y="1500120"/>
              <a:ext cx="107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рзина опад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8" name="Object 3"/>
                <p:cNvSpPr txBox="1"/>
                <p:nvPr/>
              </p:nvSpPr>
              <p:spPr>
                <a:xfrm>
                  <a:off x="3143160" y="4357800"/>
                  <a:ext cx="936360" cy="74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4286160" y="4429080"/>
                  <a:ext cx="928440" cy="70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5"/>
                <p:cNvSpPr txBox="1"/>
                <p:nvPr/>
              </p:nvSpPr>
              <p:spPr>
                <a:xfrm>
                  <a:off x="5429160" y="4357800"/>
                  <a:ext cx="101736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1" name="Object 6"/>
                <p:cNvSpPr txBox="1"/>
                <p:nvPr/>
              </p:nvSpPr>
              <p:spPr>
                <a:xfrm>
                  <a:off x="6715080" y="4357800"/>
                  <a:ext cx="1039680" cy="78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4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Δx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Δ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7"/>
                <p:cNvSpPr txBox="1"/>
                <p:nvPr/>
              </p:nvSpPr>
              <p:spPr>
                <a:xfrm>
                  <a:off x="2286000" y="3643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3" name="Object 8"/>
                <p:cNvSpPr txBox="1"/>
                <p:nvPr/>
              </p:nvSpPr>
              <p:spPr>
                <a:xfrm>
                  <a:off x="3571920" y="307152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4" name="Object 9"/>
                <p:cNvSpPr txBox="1"/>
                <p:nvPr/>
              </p:nvSpPr>
              <p:spPr>
                <a:xfrm>
                  <a:off x="4572000" y="2500200"/>
                  <a:ext cx="3204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Δ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65" name="Right Brace 70"/>
            <p:cNvSpPr/>
            <p:nvPr/>
          </p:nvSpPr>
          <p:spPr>
            <a:xfrm rot="5400000">
              <a:off x="3428640" y="3500280"/>
              <a:ext cx="285480" cy="12855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285560"/>
                <a:gd name="textAreaBottom" fmla="*/ 1285920 h 128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ight Brace 71"/>
            <p:cNvSpPr/>
            <p:nvPr/>
          </p:nvSpPr>
          <p:spPr>
            <a:xfrm rot="5400000">
              <a:off x="460764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ight Brace 72"/>
            <p:cNvSpPr/>
            <p:nvPr/>
          </p:nvSpPr>
          <p:spPr>
            <a:xfrm rot="5400000">
              <a:off x="5679000" y="3607200"/>
              <a:ext cx="285480" cy="107136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071360"/>
                <a:gd name="textAreaBottom" fmla="*/ 1071720 h 107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ight Brace 73"/>
            <p:cNvSpPr/>
            <p:nvPr/>
          </p:nvSpPr>
          <p:spPr>
            <a:xfrm rot="5400000">
              <a:off x="7000560" y="3357360"/>
              <a:ext cx="285480" cy="1571400"/>
            </a:xfrm>
            <a:custGeom>
              <a:avLst/>
              <a:gdLst>
                <a:gd name="textAreaLeft" fmla="*/ 0 w 285480"/>
                <a:gd name="textAreaRight" fmla="*/ 102960 w 285480"/>
                <a:gd name="textAreaTop" fmla="*/ 0 h 1571400"/>
                <a:gd name="textAreaBottom" fmla="*/ 157176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16200" y="10800"/>
                    <a:pt x="21600" y="10800"/>
                  </a:cubicBezTo>
                  <a:cubicBezTo>
                    <a:pt x="162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eft Brace 74"/>
            <p:cNvSpPr/>
            <p:nvPr/>
          </p:nvSpPr>
          <p:spPr>
            <a:xfrm>
              <a:off x="4929120" y="2428560"/>
              <a:ext cx="331560" cy="4190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8640 h 419040"/>
                <a:gd name="textAreaBottom" fmla="*/ 410400 h 41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713"/>
                    <a:pt x="10800" y="1425"/>
                  </a:cubicBezTo>
                  <a:lnTo>
                    <a:pt x="10800" y="9375"/>
                  </a:lnTo>
                  <a:cubicBezTo>
                    <a:pt x="10800" y="10088"/>
                    <a:pt x="5400" y="10800"/>
                    <a:pt x="0" y="10800"/>
                  </a:cubicBezTo>
                  <a:cubicBezTo>
                    <a:pt x="5400" y="10800"/>
                    <a:pt x="10800" y="11513"/>
                    <a:pt x="10800" y="12225"/>
                  </a:cubicBezTo>
                  <a:lnTo>
                    <a:pt x="10800" y="20175"/>
                  </a:lnTo>
                  <a:cubicBezTo>
                    <a:pt x="10800" y="2088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11"/>
            <p:cNvSpPr/>
            <p:nvPr/>
          </p:nvSpPr>
          <p:spPr>
            <a:xfrm>
              <a:off x="0" y="4500360"/>
              <a:ext cx="271440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Просечна брзи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76"/>
            <p:cNvSpPr/>
            <p:nvPr/>
          </p:nvSpPr>
          <p:spPr>
            <a:xfrm>
              <a:off x="2859840" y="3643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77"/>
            <p:cNvSpPr/>
            <p:nvPr/>
          </p:nvSpPr>
          <p:spPr>
            <a:xfrm>
              <a:off x="4145760" y="3286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9"/>
            <p:cNvSpPr/>
            <p:nvPr/>
          </p:nvSpPr>
          <p:spPr>
            <a:xfrm>
              <a:off x="6289200" y="20001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80"/>
            <p:cNvSpPr/>
            <p:nvPr/>
          </p:nvSpPr>
          <p:spPr>
            <a:xfrm>
              <a:off x="5217480" y="2500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11"/>
                <p:cNvSpPr txBox="1"/>
                <p:nvPr/>
              </p:nvSpPr>
              <p:spPr>
                <a:xfrm>
                  <a:off x="0" y="4929120"/>
                  <a:ext cx="1498320" cy="142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¯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f>
                        <m:num>
                          <m:r>
                            <m:t xml:space="preserve">Δ</m:t>
                          </m:r>
                          <m:limUpp>
                            <m:e>
                              <m:r>
                                <m:t xml:space="preserve">x</m:t>
                              </m:r>
                            </m:e>
                            <m:lim>
                              <m:r>
                                <m:t xml:space="preserve">→</m:t>
                              </m:r>
                            </m:lim>
                          </m:limUpp>
                        </m:num>
                        <m:den>
                          <m:r>
                            <m:t xml:space="preserve">Δ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6" name="Object 12"/>
                <p:cNvSpPr txBox="1"/>
                <p:nvPr/>
              </p:nvSpPr>
              <p:spPr>
                <a:xfrm>
                  <a:off x="5072040" y="5357880"/>
                  <a:ext cx="380520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sub>
                          <m:r>
                            <m:t xml:space="preserve">Δt</m:t>
                          </m:r>
                          <m:r>
                            <m:t xml:space="preserve">→</m:t>
                          </m:r>
                          <m:r>
                            <m:t xml:space="preserve">0</m:t>
                          </m:r>
                        </m:sub>
                      </m:sSub>
                      <m:f>
                        <m:num>
                          <m:r>
                            <m:t xml:space="preserve">Δ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x</m:t>
                              </m:r>
                            </m:e>
                          </m:acc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TextBox 9"/>
            <p:cNvSpPr/>
            <p:nvPr/>
          </p:nvSpPr>
          <p:spPr>
            <a:xfrm>
              <a:off x="4286160" y="5143680"/>
              <a:ext cx="2571480" cy="459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Тренутна брзин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8" name="Straight Arrow Connector 86"/>
            <p:cNvCxnSpPr/>
            <p:nvPr/>
          </p:nvCxnSpPr>
          <p:spPr>
            <a:xfrm flipV="1">
              <a:off x="2500200" y="4428360"/>
              <a:ext cx="2160" cy="18579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  <p:cxnSp>
          <p:nvCxnSpPr>
            <p:cNvPr id="279" name="Straight Arrow Connector 88"/>
            <p:cNvCxnSpPr/>
            <p:nvPr/>
          </p:nvCxnSpPr>
          <p:spPr>
            <a:xfrm>
              <a:off x="2499840" y="6286680"/>
              <a:ext cx="2429640" cy="2160"/>
            </a:xfrm>
            <a:prstGeom prst="straightConnector1">
              <a:avLst/>
            </a:prstGeom>
            <a:ln w="57240">
              <a:solidFill>
                <a:srgbClr val="002060"/>
              </a:solidFill>
              <a:miter/>
              <a:tailEnd len="med" type="arrow" w="med"/>
            </a:ln>
          </p:spPr>
        </p:cxnSp>
        <p:sp>
          <p:nvSpPr>
            <p:cNvPr id="280" name="Arc 91"/>
            <p:cNvSpPr/>
            <p:nvPr/>
          </p:nvSpPr>
          <p:spPr>
            <a:xfrm rot="1415400">
              <a:off x="1988640" y="5300640"/>
              <a:ext cx="1785960" cy="1387440"/>
            </a:xfrm>
            <a:custGeom>
              <a:avLst/>
              <a:gdLst/>
              <a:ahLst/>
              <a:rect l="l" t="t" r="r" b="b"/>
              <a:pathLst>
                <a:path stroke="0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  <a:lnTo>
                    <a:pt x="892969" y="693738"/>
                  </a:lnTo>
                  <a:lnTo>
                    <a:pt x="549881" y="53247"/>
                  </a:lnTo>
                  <a:close/>
                </a:path>
                <a:path fill="none" w="1785937" h="1387475">
                  <a:moveTo>
                    <a:pt x="549881" y="53247"/>
                  </a:moveTo>
                  <a:cubicBezTo>
                    <a:pt x="750274" y="-11541"/>
                    <a:pt x="974180" y="-17407"/>
                    <a:pt x="1179736" y="36746"/>
                  </a:cubicBezTo>
                  <a:cubicBezTo>
                    <a:pt x="1443452" y="106220"/>
                    <a:pt x="1650354" y="267294"/>
                    <a:pt x="1739232" y="47231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Straight Connector 93"/>
            <p:cNvSpPr/>
            <p:nvPr/>
          </p:nvSpPr>
          <p:spPr>
            <a:xfrm>
              <a:off x="2428920" y="6000840"/>
              <a:ext cx="15001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Straight Connector 96"/>
            <p:cNvSpPr/>
            <p:nvPr/>
          </p:nvSpPr>
          <p:spPr>
            <a:xfrm flipH="1">
              <a:off x="3713040" y="5788080"/>
              <a:ext cx="1440" cy="57132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Straight Connector 97"/>
            <p:cNvSpPr/>
            <p:nvPr/>
          </p:nvSpPr>
          <p:spPr>
            <a:xfrm flipH="1">
              <a:off x="3000240" y="5214960"/>
              <a:ext cx="1440" cy="114300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Straight Connector 98"/>
            <p:cNvSpPr/>
            <p:nvPr/>
          </p:nvSpPr>
          <p:spPr>
            <a:xfrm>
              <a:off x="2428920" y="5286240"/>
              <a:ext cx="785520" cy="1440"/>
            </a:xfrm>
            <a:prstGeom prst="line">
              <a:avLst/>
            </a:prstGeom>
            <a:ln w="9360">
              <a:solidFill>
                <a:srgbClr val="4a7ebb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eft Brace 99"/>
            <p:cNvSpPr/>
            <p:nvPr/>
          </p:nvSpPr>
          <p:spPr>
            <a:xfrm>
              <a:off x="2143080" y="5286240"/>
              <a:ext cx="331560" cy="714240"/>
            </a:xfrm>
            <a:custGeom>
              <a:avLst/>
              <a:gdLst>
                <a:gd name="textAreaLeft" fmla="*/ 212040 w 331560"/>
                <a:gd name="textAreaRight" fmla="*/ 331920 w 33156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0"/>
                    <a:pt x="10800" y="0"/>
                  </a:cubicBezTo>
                  <a:lnTo>
                    <a:pt x="10800" y="10800"/>
                  </a:lnTo>
                  <a:cubicBezTo>
                    <a:pt x="10800" y="10800"/>
                    <a:pt x="5400" y="10800"/>
                    <a:pt x="0" y="10800"/>
                  </a:cubicBezTo>
                  <a:cubicBezTo>
                    <a:pt x="5400" y="10800"/>
                    <a:pt x="10800" y="10800"/>
                    <a:pt x="10800" y="10800"/>
                  </a:cubicBezTo>
                  <a:lnTo>
                    <a:pt x="10800" y="21600"/>
                  </a:lnTo>
                  <a:cubicBezTo>
                    <a:pt x="10800" y="216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6" name="Object 13"/>
                <p:cNvSpPr txBox="1"/>
                <p:nvPr/>
              </p:nvSpPr>
              <p:spPr>
                <a:xfrm>
                  <a:off x="1738080" y="5465880"/>
                  <a:ext cx="42840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7" name="Object 14"/>
                <p:cNvSpPr txBox="1"/>
                <p:nvPr/>
              </p:nvSpPr>
              <p:spPr>
                <a:xfrm>
                  <a:off x="3168720" y="6286680"/>
                  <a:ext cx="377640" cy="35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8" name="Oval 107"/>
            <p:cNvSpPr/>
            <p:nvPr/>
          </p:nvSpPr>
          <p:spPr>
            <a:xfrm flipV="1">
              <a:off x="2928960" y="392832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ight Triangle 108"/>
            <p:cNvSpPr/>
            <p:nvPr/>
          </p:nvSpPr>
          <p:spPr>
            <a:xfrm rot="10800000">
              <a:off x="3214080" y="5214960"/>
              <a:ext cx="642600" cy="785520"/>
            </a:xfrm>
            <a:prstGeom prst="rtTriangle">
              <a:avLst/>
            </a:prstGeom>
            <a:solidFill>
              <a:srgbClr val="c6d9f1"/>
            </a:solidFill>
            <a:ln w="25560">
              <a:solidFill>
                <a:srgbClr val="c6d9f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Straight Connector 109"/>
            <p:cNvSpPr/>
            <p:nvPr/>
          </p:nvSpPr>
          <p:spPr>
            <a:xfrm>
              <a:off x="2999520" y="5000760"/>
              <a:ext cx="928440" cy="1143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10"/>
            <p:cNvSpPr/>
            <p:nvPr/>
          </p:nvSpPr>
          <p:spPr>
            <a:xfrm flipV="1">
              <a:off x="3500280" y="5571360"/>
              <a:ext cx="45720" cy="45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2" name="Straight Arrow Connector 67"/>
            <p:cNvCxnSpPr>
              <a:endCxn id="230" idx="2"/>
            </p:cNvCxnSpPr>
            <p:nvPr/>
          </p:nvCxnSpPr>
          <p:spPr>
            <a:xfrm flipH="1" flipV="1">
              <a:off x="3585600" y="3869640"/>
              <a:ext cx="57600" cy="48780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3" name="Straight Arrow Connector 69"/>
            <p:cNvCxnSpPr/>
            <p:nvPr/>
          </p:nvCxnSpPr>
          <p:spPr>
            <a:xfrm flipV="1">
              <a:off x="4713840" y="3285360"/>
              <a:ext cx="1080" cy="11451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4" name="Straight Arrow Connector 78"/>
            <p:cNvCxnSpPr/>
            <p:nvPr/>
          </p:nvCxnSpPr>
          <p:spPr>
            <a:xfrm flipH="1" flipV="1">
              <a:off x="5643000" y="2714040"/>
              <a:ext cx="286200" cy="1643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95" name="Straight Arrow Connector 80"/>
            <p:cNvCxnSpPr>
              <a:stCxn id="289" idx="5"/>
              <a:endCxn id="277" idx="1"/>
            </p:cNvCxnSpPr>
            <p:nvPr/>
          </p:nvCxnSpPr>
          <p:spPr>
            <a:xfrm flipV="1">
              <a:off x="3534120" y="5373360"/>
              <a:ext cx="751320" cy="235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5"/>
          <p:cNvSpPr/>
          <p:nvPr/>
        </p:nvSpPr>
        <p:spPr>
          <a:xfrm>
            <a:off x="0" y="28584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матр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нут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сеч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ач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643280" y="4572000"/>
                <a:ext cx="450072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sub>
                        <m:r>
                          <m:t xml:space="preserve">Δt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sub>
                    </m:sSub>
                    <m:f>
                      <m:num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Object 9"/>
              <p:cNvSpPr txBox="1"/>
              <p:nvPr/>
            </p:nvSpPr>
            <p:spPr>
              <a:xfrm>
                <a:off x="0" y="4500720"/>
                <a:ext cx="3857760" cy="16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v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9"/>
          <p:cNvSpPr/>
          <p:nvPr/>
        </p:nvSpPr>
        <p:spPr>
          <a:xfrm>
            <a:off x="428760" y="7128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 , униформно праволинијск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Object 13"/>
              <p:cNvSpPr txBox="1"/>
              <p:nvPr/>
            </p:nvSpPr>
            <p:spPr>
              <a:xfrm>
                <a:off x="357120" y="785880"/>
                <a:ext cx="814068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1" name="TextBox 14"/>
          <p:cNvSpPr/>
          <p:nvPr/>
        </p:nvSpPr>
        <p:spPr>
          <a:xfrm>
            <a:off x="428760" y="314316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, равномерно убрзано крет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0" y="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0" y="3214800"/>
            <a:ext cx="8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1"/>
              <p:cNvSpPr txBox="1"/>
              <p:nvPr/>
            </p:nvSpPr>
            <p:spPr>
              <a:xfrm>
                <a:off x="357120" y="3881520"/>
                <a:ext cx="3286080" cy="25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12"/>
              <p:cNvSpPr txBox="1"/>
              <p:nvPr/>
            </p:nvSpPr>
            <p:spPr>
              <a:xfrm>
                <a:off x="4098960" y="4629240"/>
                <a:ext cx="14479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f>
                      <m:num>
                        <m:limUpp>
                          <m:e>
                            <m:r>
                              <m:t xml:space="preserve">v</m:t>
                            </m:r>
                          </m:e>
                          <m:lim>
                            <m:r>
                              <m:t xml:space="preserve">→</m:t>
                            </m:r>
                          </m:lim>
                        </m:limUpp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5"/>
              <p:cNvSpPr txBox="1"/>
              <p:nvPr/>
            </p:nvSpPr>
            <p:spPr>
              <a:xfrm>
                <a:off x="6224760" y="4613400"/>
                <a:ext cx="2354040" cy="17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v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=</m:t>
                    </m:r>
                    <m:limUpp>
                      <m:e>
                        <m:r>
                          <m:t xml:space="preserve">a</m:t>
                        </m:r>
                      </m:e>
                      <m:lim>
                        <m:r>
                          <m:t xml:space="preserve">→</m:t>
                        </m:r>
                      </m:lim>
                    </m:limUpp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Rectangle 15"/>
          <p:cNvSpPr/>
          <p:nvPr/>
        </p:nvSpPr>
        <p:spPr>
          <a:xfrm>
            <a:off x="5573160" y="3929040"/>
            <a:ext cx="18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брзањ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9"/>
          <p:cNvSpPr/>
          <p:nvPr/>
        </p:nvSpPr>
        <p:spPr>
          <a:xfrm>
            <a:off x="428760" y="1928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иформ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Object 13"/>
              <p:cNvSpPr txBox="1"/>
              <p:nvPr/>
            </p:nvSpPr>
            <p:spPr>
              <a:xfrm>
                <a:off x="214200" y="2160720"/>
                <a:ext cx="68979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Box 14"/>
          <p:cNvSpPr/>
          <p:nvPr/>
        </p:nvSpPr>
        <p:spPr>
          <a:xfrm>
            <a:off x="428760" y="3857760"/>
            <a:ext cx="36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обод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= 9,81 m/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14"/>
              <p:cNvSpPr txBox="1"/>
              <p:nvPr/>
            </p:nvSpPr>
            <p:spPr>
              <a:xfrm>
                <a:off x="4286160" y="3525840"/>
                <a:ext cx="4500720" cy="333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d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sSup>
                                  <m:e/>
                                  <m:sup/>
                                </m:sSup>
                              </m:sub>
                            </m:sSub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ako</m:t>
                        </m:r>
                        <m:sSup>
                          <m:e/>
                          <m:sup/>
                        </m:sSup>
                        <m:r>
                          <m:rPr>
                            <m:lit/>
                            <m:nor/>
                          </m:rPr>
                          <m:t xml:space="preserve">je</m:t>
                        </m:r>
                        <m:sSup>
                          <m:e/>
                          <m:sup/>
                        </m:s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2" name="Rectangle 16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ференциј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к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еме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иј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у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0" y="3429000"/>
            <a:ext cx="9144000" cy="3429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0" y="1714680"/>
            <a:ext cx="9144000" cy="17143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0" y="1857240"/>
            <a:ext cx="16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2520" y="385776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тела која се крећу могу да делују друга тела и да доведу до промене облика кретањ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која карактерише меру узајамног дејства два тела зове се сил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 покретна тела могу да делују силе константног интензитета, а такође и силе чији се интензитети и правци мењају током времен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251280" y="446040"/>
            <a:ext cx="773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сновни елементи динами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И КРЕТАЊА ПОД ДЕЈСТВОМ С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179280" y="71424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в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ер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иформ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љ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нуђ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пушт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о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рзи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4"/>
              <p:cNvSpPr txBox="1"/>
              <p:nvPr/>
            </p:nvSpPr>
            <p:spPr>
              <a:xfrm>
                <a:off x="0" y="4143240"/>
                <a:ext cx="2779560" cy="15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  <m:e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ns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TextBox 5"/>
          <p:cNvSpPr/>
          <p:nvPr/>
        </p:nvSpPr>
        <p:spPr>
          <a:xfrm>
            <a:off x="3143160" y="3429000"/>
            <a:ext cx="600084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редност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иров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=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хвата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лас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ха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лич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V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как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љаш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4320" y="5786280"/>
            <a:ext cx="30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2646720" y="0"/>
            <a:ext cx="35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Њутнов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зак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руг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олич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кретањ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порцион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285840" y="1285920"/>
                <a:ext cx="3714840" cy="385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6" name="TextBox 6"/>
          <p:cNvSpPr/>
          <p:nvPr/>
        </p:nvSpPr>
        <p:spPr>
          <a:xfrm>
            <a:off x="4286160" y="2286000"/>
            <a:ext cx="4857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брз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=const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=con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ут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5110200"/>
            <a:ext cx="9144000" cy="17478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8"/>
          <p:cNvSpPr/>
          <p:nvPr/>
        </p:nvSpPr>
        <p:spPr>
          <a:xfrm>
            <a:off x="4500720" y="42861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1Newton = 1N = 1kg.m/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кони крет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 се крећу, мењају под дејством си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 је вектор који има величину-интензитет, правац и сме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више типова с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електричн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стезања, ширења/сабиј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ења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ости, ит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3"/>
              <p:cNvSpPr txBox="1"/>
              <p:nvPr/>
            </p:nvSpPr>
            <p:spPr>
              <a:xfrm>
                <a:off x="179280" y="3022560"/>
                <a:ext cx="37148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g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1" name="Rectangle 3"/>
          <p:cNvSpPr/>
          <p:nvPr/>
        </p:nvSpPr>
        <p:spPr>
          <a:xfrm>
            <a:off x="4643280" y="3286080"/>
            <a:ext cx="4249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лободни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ад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a=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брзањ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Земљи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g= 9,81 m/s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9"/>
          <p:cNvSpPr/>
          <p:nvPr/>
        </p:nvSpPr>
        <p:spPr>
          <a:xfrm>
            <a:off x="0" y="0"/>
            <a:ext cx="91440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Masa i tež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a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osobi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ežina= gravitaciona sila koja deluje na telo mase m , F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=g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468360" y="19288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ste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Masa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težina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S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Kilogram (kg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jut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(N) 1N = 1 kg.m/s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2778120"/>
          <a:ext cx="5143680" cy="4079880"/>
        </p:xfrm>
        <a:graphic>
          <a:graphicData uri="http://schemas.openxmlformats.org/drawingml/2006/table">
            <a:tbl>
              <a:tblPr/>
              <a:tblGrid>
                <a:gridCol w="3571920"/>
                <a:gridCol w="1571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sa  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a galaks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0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l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ove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ica praš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kul penicil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r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x 10 </a:t>
                      </a:r>
                      <a:r>
                        <a:rPr b="0" lang="sr-Latn-C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-3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1"/>
          <p:cNvSpPr/>
          <p:nvPr/>
        </p:nvSpPr>
        <p:spPr>
          <a:xfrm>
            <a:off x="1751040" y="4653000"/>
            <a:ext cx="6737400" cy="2205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3" descr="300px-Periodic_table.svg.png"/>
          <p:cNvPicPr/>
          <p:nvPr/>
        </p:nvPicPr>
        <p:blipFill>
          <a:blip r:embed="rId1"/>
          <a:stretch/>
        </p:blipFill>
        <p:spPr>
          <a:xfrm>
            <a:off x="3286080" y="3822840"/>
            <a:ext cx="5388120" cy="3035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"/>
          <p:cNvPicPr/>
          <p:nvPr/>
        </p:nvPicPr>
        <p:blipFill>
          <a:blip r:embed="rId2"/>
          <a:stretch/>
        </p:blipFill>
        <p:spPr>
          <a:xfrm>
            <a:off x="0" y="4075200"/>
            <a:ext cx="2857680" cy="2782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9360" y="0"/>
            <a:ext cx="91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што нам треба физи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чка хемиј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112680" y="649440"/>
            <a:ext cx="8928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обухвата две науке - физику и хеми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ка проучава материју – грађу, својства и кретање. Поред тога, проучава законитости по којима се дешавају појаве у природи. Физика проучава начине на који материја интерагује једна са друг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Хемија проучава супстанцу – грађу, особине, промене и законитости по којима се промене супстанце деш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хемија је настала као тежња научника да се мноштво информација о хемијским једињењима и реакцијама обједине и да се успоставе законитости које их повез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Box 3"/>
          <p:cNvSpPr/>
          <p:nvPr/>
        </p:nvSpPr>
        <p:spPr>
          <a:xfrm>
            <a:off x="428760" y="333360"/>
            <a:ext cx="8001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Трећ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Њутно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еакц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рот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ер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тензит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3"/>
              <p:cNvSpPr txBox="1"/>
              <p:nvPr/>
            </p:nvSpPr>
            <p:spPr>
              <a:xfrm>
                <a:off x="857160" y="4643280"/>
                <a:ext cx="25718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8" name="Oval 6"/>
          <p:cNvSpPr/>
          <p:nvPr/>
        </p:nvSpPr>
        <p:spPr>
          <a:xfrm>
            <a:off x="4857840" y="4500720"/>
            <a:ext cx="842760" cy="842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7"/>
          <p:cNvSpPr/>
          <p:nvPr/>
        </p:nvSpPr>
        <p:spPr>
          <a:xfrm>
            <a:off x="6929280" y="4143240"/>
            <a:ext cx="1285920" cy="1343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Straight Arrow Connector 15"/>
          <p:cNvCxnSpPr/>
          <p:nvPr/>
        </p:nvCxnSpPr>
        <p:spPr>
          <a:xfrm>
            <a:off x="5214960" y="4928760"/>
            <a:ext cx="714960" cy="25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1" name="Straight Arrow Connector 23"/>
          <p:cNvCxnSpPr/>
          <p:nvPr/>
        </p:nvCxnSpPr>
        <p:spPr>
          <a:xfrm flipH="1">
            <a:off x="6786360" y="4856760"/>
            <a:ext cx="776880" cy="1188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5715000" y="4429080"/>
                <a:ext cx="3571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Object 7"/>
              <p:cNvSpPr txBox="1"/>
              <p:nvPr/>
            </p:nvSpPr>
            <p:spPr>
              <a:xfrm>
                <a:off x="6572160" y="4357800"/>
                <a:ext cx="35712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Box 3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Дејств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ил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овршину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ПРИТИСАК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нутраш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ми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љ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вноме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поређ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но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arallelogram 5"/>
          <p:cNvSpPr/>
          <p:nvPr/>
        </p:nvSpPr>
        <p:spPr>
          <a:xfrm>
            <a:off x="5357880" y="278604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6" name="Straight Arrow Connector 11"/>
          <p:cNvCxnSpPr/>
          <p:nvPr/>
        </p:nvCxnSpPr>
        <p:spPr>
          <a:xfrm flipH="1">
            <a:off x="6786360" y="2142720"/>
            <a:ext cx="216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7" name="Rectangle 13"/>
          <p:cNvSpPr/>
          <p:nvPr/>
        </p:nvSpPr>
        <p:spPr>
          <a:xfrm>
            <a:off x="5646240" y="3571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"/>
              <p:cNvSpPr txBox="1"/>
              <p:nvPr/>
            </p:nvSpPr>
            <p:spPr>
              <a:xfrm>
                <a:off x="179280" y="3878280"/>
                <a:ext cx="3643560" cy="32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eqArr>
                          <m:e>
                            <m:f>
                              <m:num>
                                <m:r>
                                  <m:t xml:space="preserve">S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  <m:r>
                      <m:t xml:space="preserve">P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eqAr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/>
                        </m:f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num>
                      <m:den/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Parallelogram 15"/>
          <p:cNvSpPr/>
          <p:nvPr/>
        </p:nvSpPr>
        <p:spPr>
          <a:xfrm>
            <a:off x="5500800" y="5357880"/>
            <a:ext cx="2857320" cy="1428840"/>
          </a:xfrm>
          <a:prstGeom prst="parallelogram">
            <a:avLst>
              <a:gd name="adj" fmla="val 2499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0" name="Straight Arrow Connector 18"/>
          <p:cNvCxnSpPr/>
          <p:nvPr/>
        </p:nvCxnSpPr>
        <p:spPr>
          <a:xfrm flipH="1">
            <a:off x="6928560" y="4714560"/>
            <a:ext cx="2520" cy="1429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1" name="Rectangle 20"/>
          <p:cNvSpPr/>
          <p:nvPr/>
        </p:nvSpPr>
        <p:spPr>
          <a:xfrm>
            <a:off x="5788800" y="6143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Straight Arrow Connector 21"/>
          <p:cNvCxnSpPr/>
          <p:nvPr/>
        </p:nvCxnSpPr>
        <p:spPr>
          <a:xfrm flipH="1">
            <a:off x="6928560" y="4857840"/>
            <a:ext cx="1143720" cy="12866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3" name="Rectangle 24"/>
          <p:cNvSpPr/>
          <p:nvPr/>
        </p:nvSpPr>
        <p:spPr>
          <a:xfrm>
            <a:off x="6861600" y="20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5"/>
          <p:cNvSpPr/>
          <p:nvPr/>
        </p:nvSpPr>
        <p:spPr>
          <a:xfrm>
            <a:off x="8147520" y="4643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6"/>
          <p:cNvSpPr/>
          <p:nvPr/>
        </p:nvSpPr>
        <p:spPr>
          <a:xfrm>
            <a:off x="6370200" y="4572000"/>
            <a:ext cx="511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7"/>
          <p:cNvSpPr/>
          <p:nvPr/>
        </p:nvSpPr>
        <p:spPr>
          <a:xfrm>
            <a:off x="7146720" y="48578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28"/>
          <p:cNvSpPr/>
          <p:nvPr/>
        </p:nvSpPr>
        <p:spPr>
          <a:xfrm>
            <a:off x="2143080" y="4059360"/>
            <a:ext cx="278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Object 1"/>
              <p:cNvSpPr txBox="1"/>
              <p:nvPr/>
            </p:nvSpPr>
            <p:spPr>
              <a:xfrm>
                <a:off x="3517920" y="2657520"/>
                <a:ext cx="167652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1"/>
          <p:cNvSpPr/>
          <p:nvPr/>
        </p:nvSpPr>
        <p:spPr>
          <a:xfrm>
            <a:off x="0" y="5716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влађи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отпор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уж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мештањ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ру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волин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Object 3"/>
              <p:cNvSpPr txBox="1"/>
              <p:nvPr/>
            </p:nvSpPr>
            <p:spPr>
              <a:xfrm>
                <a:off x="3143160" y="2428920"/>
                <a:ext cx="24577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1" name="TextBox 4"/>
          <p:cNvSpPr/>
          <p:nvPr/>
        </p:nvSpPr>
        <p:spPr>
          <a:xfrm>
            <a:off x="0" y="3143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ц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кла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г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ла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104760" y="4641840"/>
                <a:ext cx="3135240" cy="21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Rectangle 6"/>
          <p:cNvSpPr/>
          <p:nvPr/>
        </p:nvSpPr>
        <p:spPr>
          <a:xfrm>
            <a:off x="4572000" y="6357960"/>
            <a:ext cx="4572000" cy="357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5500800" y="5786280"/>
            <a:ext cx="18572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6429240" y="4857840"/>
            <a:ext cx="1571760" cy="1214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6" name="Straight Arrow Connector 10"/>
          <p:cNvCxnSpPr/>
          <p:nvPr/>
        </p:nvCxnSpPr>
        <p:spPr>
          <a:xfrm flipV="1">
            <a:off x="6428160" y="4857480"/>
            <a:ext cx="1080" cy="1216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7" name="Straight Arrow Connector 12"/>
          <p:cNvCxnSpPr/>
          <p:nvPr/>
        </p:nvCxnSpPr>
        <p:spPr>
          <a:xfrm flipV="1">
            <a:off x="6429240" y="4857120"/>
            <a:ext cx="1572480" cy="1215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68" name="Straight Arrow Connector 14"/>
          <p:cNvCxnSpPr/>
          <p:nvPr/>
        </p:nvCxnSpPr>
        <p:spPr>
          <a:xfrm>
            <a:off x="6429240" y="6071760"/>
            <a:ext cx="1572480" cy="2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9" name="Object 5"/>
              <p:cNvSpPr txBox="1"/>
              <p:nvPr/>
            </p:nvSpPr>
            <p:spPr>
              <a:xfrm>
                <a:off x="5907240" y="5087880"/>
                <a:ext cx="3999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0" name="Object 9"/>
              <p:cNvSpPr txBox="1"/>
              <p:nvPr/>
            </p:nvSpPr>
            <p:spPr>
              <a:xfrm>
                <a:off x="8072280" y="5357880"/>
                <a:ext cx="451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1" name="Object 10"/>
              <p:cNvSpPr txBox="1"/>
              <p:nvPr/>
            </p:nvSpPr>
            <p:spPr>
              <a:xfrm>
                <a:off x="8001000" y="4286160"/>
                <a:ext cx="428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11"/>
              <p:cNvSpPr txBox="1"/>
              <p:nvPr/>
            </p:nvSpPr>
            <p:spPr>
              <a:xfrm>
                <a:off x="5929200" y="5715000"/>
                <a:ext cx="5414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s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73" name="TextBox 27"/>
          <p:cNvSpPr/>
          <p:nvPr/>
        </p:nvSpPr>
        <p:spPr>
          <a:xfrm>
            <a:off x="2647800" y="4125960"/>
            <a:ext cx="34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за ра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Joul = 1J= 1N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  <a:ea typeface="Arial"/>
              </a:rPr>
              <a:t>x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rc 28"/>
          <p:cNvSpPr/>
          <p:nvPr/>
        </p:nvSpPr>
        <p:spPr>
          <a:xfrm>
            <a:off x="7286760" y="5286240"/>
            <a:ext cx="357120" cy="1571760"/>
          </a:xfrm>
          <a:custGeom>
            <a:avLst/>
            <a:gdLst/>
            <a:ahLst/>
            <a:rect l="l" t="t" r="r" b="b"/>
            <a:pathLst>
              <a:path stroke="0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  <a:lnTo>
                  <a:pt x="178594" y="785813"/>
                </a:lnTo>
                <a:lnTo>
                  <a:pt x="178594" y="0"/>
                </a:lnTo>
                <a:close/>
              </a:path>
              <a:path fill="none" w="357188" h="1571625">
                <a:moveTo>
                  <a:pt x="178594" y="0"/>
                </a:moveTo>
                <a:cubicBezTo>
                  <a:pt x="277229" y="0"/>
                  <a:pt x="357188" y="351820"/>
                  <a:pt x="357188" y="78581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29"/>
          <p:cNvSpPr/>
          <p:nvPr/>
        </p:nvSpPr>
        <p:spPr>
          <a:xfrm>
            <a:off x="7289280" y="542916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8"/>
          <p:cNvSpPr/>
          <p:nvPr/>
        </p:nvSpPr>
        <p:spPr>
          <a:xfrm>
            <a:off x="3638160" y="0"/>
            <a:ext cx="10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Box 1"/>
          <p:cNvSpPr/>
          <p:nvPr/>
        </p:nvSpPr>
        <p:spPr>
          <a:xfrm>
            <a:off x="144360" y="54936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пште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елуј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ц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мењ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величи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задржав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с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ава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извр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а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једна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2"/>
              <p:cNvSpPr txBox="1"/>
              <p:nvPr/>
            </p:nvSpPr>
            <p:spPr>
              <a:xfrm>
                <a:off x="1692360" y="4824360"/>
                <a:ext cx="270972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/>
                    </m:nary>
                    <m:r>
                      <m:rPr>
                        <m:lit/>
                        <m:nor/>
                      </m:rPr>
                      <m:t xml:space="preserve">Fd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9" name="Group 1"/>
          <p:cNvGrpSpPr/>
          <p:nvPr/>
        </p:nvGrpSpPr>
        <p:grpSpPr>
          <a:xfrm>
            <a:off x="5534640" y="3916440"/>
            <a:ext cx="3022200" cy="2511360"/>
            <a:chOff x="5534640" y="3916440"/>
            <a:chExt cx="3022200" cy="2511360"/>
          </a:xfrm>
        </p:grpSpPr>
        <p:cxnSp>
          <p:nvCxnSpPr>
            <p:cNvPr id="380" name="Straight Arrow Connector 2"/>
            <p:cNvCxnSpPr/>
            <p:nvPr/>
          </p:nvCxnSpPr>
          <p:spPr>
            <a:xfrm flipV="1">
              <a:off x="5960880" y="4060080"/>
              <a:ext cx="2160" cy="18579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1" name="Straight Arrow Connector 3"/>
            <p:cNvCxnSpPr/>
            <p:nvPr/>
          </p:nvCxnSpPr>
          <p:spPr>
            <a:xfrm>
              <a:off x="5960880" y="5916600"/>
              <a:ext cx="257256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2" name="Freeform 4"/>
            <p:cNvSpPr/>
            <p:nvPr/>
          </p:nvSpPr>
          <p:spPr>
            <a:xfrm>
              <a:off x="6103800" y="4273560"/>
              <a:ext cx="2030400" cy="1482480"/>
            </a:xfrm>
            <a:custGeom>
              <a:avLst/>
              <a:gdLst/>
              <a:ahLst/>
              <a:rect l="l" t="t" r="r" b="b"/>
              <a:pathLst>
                <a:path w="1324303" h="1481959">
                  <a:moveTo>
                    <a:pt x="0" y="0"/>
                  </a:moveTo>
                  <a:cubicBezTo>
                    <a:pt x="156341" y="6569"/>
                    <a:pt x="312682" y="13138"/>
                    <a:pt x="472965" y="220717"/>
                  </a:cubicBezTo>
                  <a:cubicBezTo>
                    <a:pt x="633248" y="428296"/>
                    <a:pt x="819806" y="1035269"/>
                    <a:pt x="961696" y="1245476"/>
                  </a:cubicBezTo>
                  <a:cubicBezTo>
                    <a:pt x="1103586" y="1455683"/>
                    <a:pt x="1213944" y="1468821"/>
                    <a:pt x="1324303" y="1481959"/>
                  </a:cubicBezTo>
                </a:path>
              </a:pathLst>
            </a:custGeom>
            <a:noFill/>
            <a:ln w="381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3" name="Straight Arrow Connector 5"/>
            <p:cNvCxnSpPr/>
            <p:nvPr/>
          </p:nvCxnSpPr>
          <p:spPr>
            <a:xfrm flipV="1">
              <a:off x="6175080" y="4201560"/>
              <a:ext cx="1215000" cy="7200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84" name="Straight Arrow Connector 6"/>
            <p:cNvCxnSpPr/>
            <p:nvPr/>
          </p:nvCxnSpPr>
          <p:spPr>
            <a:xfrm>
              <a:off x="6103440" y="4273560"/>
              <a:ext cx="1215000" cy="1432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385" name="TextBox 7"/>
            <p:cNvSpPr/>
            <p:nvPr/>
          </p:nvSpPr>
          <p:spPr>
            <a:xfrm>
              <a:off x="7463520" y="3916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8"/>
            <p:cNvSpPr/>
            <p:nvPr/>
          </p:nvSpPr>
          <p:spPr>
            <a:xfrm>
              <a:off x="7391880" y="4273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9"/>
            <p:cNvSpPr/>
            <p:nvPr/>
          </p:nvSpPr>
          <p:spPr>
            <a:xfrm>
              <a:off x="5534640" y="3987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Straight Connector 10"/>
            <p:cNvSpPr/>
            <p:nvPr/>
          </p:nvSpPr>
          <p:spPr>
            <a:xfrm>
              <a:off x="6103800" y="4273560"/>
              <a:ext cx="1440" cy="1643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Straight Connector 11"/>
            <p:cNvSpPr/>
            <p:nvPr/>
          </p:nvSpPr>
          <p:spPr>
            <a:xfrm>
              <a:off x="7389720" y="5273640"/>
              <a:ext cx="1440" cy="642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12"/>
            <p:cNvSpPr/>
            <p:nvPr/>
          </p:nvSpPr>
          <p:spPr>
            <a:xfrm>
              <a:off x="6035040" y="3916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Box 13"/>
            <p:cNvSpPr/>
            <p:nvPr/>
          </p:nvSpPr>
          <p:spPr>
            <a:xfrm>
              <a:off x="7392240" y="4844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9"/>
            <p:cNvSpPr/>
            <p:nvPr/>
          </p:nvSpPr>
          <p:spPr>
            <a:xfrm>
              <a:off x="8249760" y="60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Straight Arrow Connector 18"/>
            <p:cNvCxnSpPr>
              <a:endCxn id="391" idx="1"/>
            </p:cNvCxnSpPr>
            <p:nvPr/>
          </p:nvCxnSpPr>
          <p:spPr>
            <a:xfrm>
              <a:off x="6961320" y="4630320"/>
              <a:ext cx="429120" cy="40068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394" name="Straight Arrow Connector 20"/>
            <p:cNvCxnSpPr/>
            <p:nvPr/>
          </p:nvCxnSpPr>
          <p:spPr>
            <a:xfrm>
              <a:off x="7389720" y="5273280"/>
              <a:ext cx="357840" cy="2149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Box 2"/>
          <p:cNvSpPr/>
          <p:nvPr/>
        </p:nvSpPr>
        <p:spPr>
          <a:xfrm>
            <a:off x="500040" y="2643120"/>
            <a:ext cx="835812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ше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го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врш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тв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33120" y="0"/>
            <a:ext cx="82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ЈЕ СПОСОБНОСТ ВРШЕЊА Р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4"/>
          <p:cNvSpPr/>
          <p:nvPr/>
        </p:nvSpPr>
        <p:spPr>
          <a:xfrm>
            <a:off x="3429000" y="914400"/>
            <a:ext cx="13716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=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5955840" y="91440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93480" y="91440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Д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eft Arrow 7"/>
          <p:cNvSpPr/>
          <p:nvPr/>
        </p:nvSpPr>
        <p:spPr>
          <a:xfrm>
            <a:off x="2362320" y="83808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eft Arrow 8"/>
          <p:cNvSpPr/>
          <p:nvPr/>
        </p:nvSpPr>
        <p:spPr>
          <a:xfrm rot="10800000">
            <a:off x="5105160" y="837720"/>
            <a:ext cx="609480" cy="762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6"/>
          <p:cNvSpPr/>
          <p:nvPr/>
        </p:nvSpPr>
        <p:spPr>
          <a:xfrm>
            <a:off x="2057400" y="1752480"/>
            <a:ext cx="472428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6635520" y="175248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0" y="621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еханич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оплот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емиј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9"/>
          <p:cNvSpPr/>
          <p:nvPr/>
        </p:nvSpPr>
        <p:spPr>
          <a:xfrm>
            <a:off x="0" y="214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УКУПНА ЕНЕРГ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једнака збиру кине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ке и потенцијалне енергиј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264960" y="2133720"/>
            <a:ext cx="8534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 ЕНЕРИЈ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кре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 се мери радом који изврши сила да уочено тело из стања мировања убрза, да на пређеном путу достигне брзину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.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3"/>
          <p:cNvSpPr/>
          <p:nvPr/>
        </p:nvSpPr>
        <p:spPr>
          <a:xfrm>
            <a:off x="239760" y="4508640"/>
            <a:ext cx="8786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НА ЕНЕРГИЈА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: енергија положа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се мери радом који изврши сила да би уочено тело преместила из једне у другу тачку поља.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5"/>
          <p:cNvSpPr/>
          <p:nvPr/>
        </p:nvSpPr>
        <p:spPr>
          <a:xfrm>
            <a:off x="2857680" y="1341360"/>
            <a:ext cx="2286000" cy="648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E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+ Е</a:t>
            </a:r>
            <a:r>
              <a:rPr b="1" lang="sr-Latn-C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4"/>
          <p:cNvSpPr/>
          <p:nvPr/>
        </p:nvSpPr>
        <p:spPr>
          <a:xfrm>
            <a:off x="0" y="260280"/>
            <a:ext cx="9144000" cy="24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0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ал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лат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врш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јств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поче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брзање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бити енергију кретањ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Object 5"/>
              <p:cNvSpPr txBox="1"/>
              <p:nvPr/>
            </p:nvSpPr>
            <p:spPr>
              <a:xfrm>
                <a:off x="158760" y="3213000"/>
                <a:ext cx="898524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f>
                          <m:num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v</m:t>
                                </m:r>
                              </m:e>
                            </m:acc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Object 4"/>
              <p:cNvSpPr txBox="1"/>
              <p:nvPr/>
            </p:nvSpPr>
            <p:spPr>
              <a:xfrm>
                <a:off x="3276720" y="4551480"/>
                <a:ext cx="22860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2" name="Rectangle 5"/>
          <p:cNvSpPr/>
          <p:nvPr/>
        </p:nvSpPr>
        <p:spPr>
          <a:xfrm>
            <a:off x="177840" y="5732640"/>
            <a:ext cx="878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нуто, тело које се креће брзином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поседује енергију кретања Е и може да изврши неки рад 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7"/>
          <p:cNvSpPr/>
          <p:nvPr/>
        </p:nvSpPr>
        <p:spPr>
          <a:xfrm>
            <a:off x="395280" y="1316160"/>
            <a:ext cx="842472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о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рзин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R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естанк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ј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ста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еки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ел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4" name="Object 4"/>
              <p:cNvSpPr txBox="1"/>
              <p:nvPr/>
            </p:nvSpPr>
            <p:spPr>
              <a:xfrm>
                <a:off x="0" y="3789360"/>
                <a:ext cx="91123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r>
                          <m:t xml:space="preserve">m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d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ΔE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2"/>
          <p:cNvSpPr/>
          <p:nvPr/>
        </p:nvSpPr>
        <p:spPr>
          <a:xfrm>
            <a:off x="398880" y="500040"/>
            <a:ext cx="834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инетич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 различитих објек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0" y="5589720"/>
            <a:ext cx="914400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Line 4"/>
          <p:cNvSpPr/>
          <p:nvPr/>
        </p:nvSpPr>
        <p:spPr>
          <a:xfrm flipV="1">
            <a:off x="3379680" y="14155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5"/>
          <p:cNvSpPr/>
          <p:nvPr/>
        </p:nvSpPr>
        <p:spPr>
          <a:xfrm>
            <a:off x="6059520" y="1730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"/>
          <p:cNvSpPr/>
          <p:nvPr/>
        </p:nvSpPr>
        <p:spPr>
          <a:xfrm>
            <a:off x="6278400" y="192888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850752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8"/>
          <p:cNvSpPr/>
          <p:nvPr/>
        </p:nvSpPr>
        <p:spPr>
          <a:xfrm flipH="1">
            <a:off x="8002440" y="3032280"/>
            <a:ext cx="571680" cy="6285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3122640" y="323532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0"/>
          <p:cNvSpPr/>
          <p:nvPr/>
        </p:nvSpPr>
        <p:spPr>
          <a:xfrm flipH="1" flipV="1">
            <a:off x="2739600" y="295596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7415280" y="14572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"/>
          <p:cNvSpPr/>
          <p:nvPr/>
        </p:nvSpPr>
        <p:spPr>
          <a:xfrm flipH="1" flipV="1">
            <a:off x="5644800" y="1103040"/>
            <a:ext cx="1763640" cy="34740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13"/>
          <p:cNvSpPr/>
          <p:nvPr/>
        </p:nvSpPr>
        <p:spPr>
          <a:xfrm>
            <a:off x="5721480" y="313200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4"/>
          <p:cNvSpPr/>
          <p:nvPr/>
        </p:nvSpPr>
        <p:spPr>
          <a:xfrm flipV="1">
            <a:off x="5940360" y="278460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15"/>
          <p:cNvSpPr/>
          <p:nvPr/>
        </p:nvSpPr>
        <p:spPr>
          <a:xfrm>
            <a:off x="4892760" y="29275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6"/>
          <p:cNvSpPr/>
          <p:nvPr/>
        </p:nvSpPr>
        <p:spPr>
          <a:xfrm flipH="1">
            <a:off x="4215960" y="3125880"/>
            <a:ext cx="669960" cy="6919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17"/>
          <p:cNvSpPr/>
          <p:nvPr/>
        </p:nvSpPr>
        <p:spPr>
          <a:xfrm>
            <a:off x="4665600" y="183348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 flipH="1">
            <a:off x="4645080" y="1960560"/>
            <a:ext cx="156960" cy="85716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9"/>
          <p:cNvSpPr/>
          <p:nvPr/>
        </p:nvSpPr>
        <p:spPr>
          <a:xfrm>
            <a:off x="6850080" y="272268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7070760" y="2921040"/>
            <a:ext cx="1074600" cy="1254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21"/>
          <p:cNvSpPr/>
          <p:nvPr/>
        </p:nvSpPr>
        <p:spPr>
          <a:xfrm>
            <a:off x="4929120" y="1252440"/>
            <a:ext cx="2145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2"/>
          <p:cNvSpPr/>
          <p:nvPr/>
        </p:nvSpPr>
        <p:spPr>
          <a:xfrm>
            <a:off x="5149800" y="145080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23"/>
          <p:cNvSpPr/>
          <p:nvPr/>
        </p:nvSpPr>
        <p:spPr>
          <a:xfrm>
            <a:off x="8545680" y="2278080"/>
            <a:ext cx="2124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24"/>
          <p:cNvSpPr/>
          <p:nvPr/>
        </p:nvSpPr>
        <p:spPr>
          <a:xfrm flipV="1">
            <a:off x="8726400" y="203148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25"/>
          <p:cNvSpPr/>
          <p:nvPr/>
        </p:nvSpPr>
        <p:spPr>
          <a:xfrm flipH="1" flipV="1">
            <a:off x="8726400" y="17589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29"/>
          <p:cNvSpPr/>
          <p:nvPr/>
        </p:nvSpPr>
        <p:spPr>
          <a:xfrm flipH="1" flipV="1">
            <a:off x="2858760" y="1817280"/>
            <a:ext cx="428760" cy="692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0"/>
          <p:cNvSpPr/>
          <p:nvPr/>
        </p:nvSpPr>
        <p:spPr>
          <a:xfrm>
            <a:off x="8037360" y="15368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31"/>
          <p:cNvSpPr/>
          <p:nvPr/>
        </p:nvSpPr>
        <p:spPr>
          <a:xfrm flipV="1">
            <a:off x="8256600" y="118692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32"/>
          <p:cNvSpPr/>
          <p:nvPr/>
        </p:nvSpPr>
        <p:spPr>
          <a:xfrm>
            <a:off x="3273480" y="248292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33"/>
          <p:cNvSpPr/>
          <p:nvPr/>
        </p:nvSpPr>
        <p:spPr>
          <a:xfrm>
            <a:off x="3160800" y="176544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33"/>
          <p:cNvSpPr/>
          <p:nvPr/>
        </p:nvSpPr>
        <p:spPr>
          <a:xfrm>
            <a:off x="0" y="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икро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том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молек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 гасу имају различите брзине и крећу се у свим могућим правц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3"/>
          <p:cNvSpPr/>
          <p:nvPr/>
        </p:nvSpPr>
        <p:spPr>
          <a:xfrm>
            <a:off x="8931240" y="1960560"/>
            <a:ext cx="21276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9"/>
          <p:cNvSpPr/>
          <p:nvPr/>
        </p:nvSpPr>
        <p:spPr>
          <a:xfrm>
            <a:off x="0" y="4500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зличи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з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зби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њих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0" y="2286000"/>
                <a:ext cx="2500200" cy="15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Object 3"/>
              <p:cNvSpPr txBox="1"/>
              <p:nvPr/>
            </p:nvSpPr>
            <p:spPr>
              <a:xfrm>
                <a:off x="2500200" y="5556240"/>
                <a:ext cx="401652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0" name="TextBox 34"/>
          <p:cNvSpPr/>
          <p:nvPr/>
        </p:nvSpPr>
        <p:spPr>
          <a:xfrm>
            <a:off x="0" y="4000680"/>
            <a:ext cx="93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ака честица има своју брзину и своју кинетичку енерги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"/>
          <p:cNvSpPr/>
          <p:nvPr/>
        </p:nvSpPr>
        <p:spPr>
          <a:xfrm>
            <a:off x="642960" y="333360"/>
            <a:ext cx="7858080" cy="63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И си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тем једи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Физичка стања материј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рз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брзањ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каларне и векторске величин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 енерг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 енергија атома и молеку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Box 3"/>
          <p:cNvSpPr/>
          <p:nvPr/>
        </p:nvSpPr>
        <p:spPr>
          <a:xfrm>
            <a:off x="0" y="0"/>
            <a:ext cx="928512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ПОТЕНЦИЈАЛН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знач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д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и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о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мест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ч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љ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ређ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и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н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емљ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"/>
          <p:cNvSpPr/>
          <p:nvPr/>
        </p:nvSpPr>
        <p:spPr>
          <a:xfrm>
            <a:off x="3357720" y="5041800"/>
            <a:ext cx="5786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m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-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равитацио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ста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9.81 m/s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-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795960" y="521496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857240" y="642960"/>
            <a:ext cx="5857920" cy="557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енцијал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нетич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нерг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0" y="5105160"/>
            <a:ext cx="4286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Потенцијална</a:t>
            </a: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овањ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6" name="Picture 6" descr=""/>
          <p:cNvPicPr/>
          <p:nvPr/>
        </p:nvPicPr>
        <p:blipFill>
          <a:blip r:embed="rId1"/>
          <a:stretch/>
        </p:blipFill>
        <p:spPr>
          <a:xfrm>
            <a:off x="3143160" y="1214280"/>
            <a:ext cx="236232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0" y="1428840"/>
            <a:ext cx="1793880" cy="2539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</p:pic>
      <p:graphicFrame>
        <p:nvGraphicFramePr>
          <p:cNvPr id="458" name="Object 5"/>
          <p:cNvGraphicFramePr/>
          <p:nvPr/>
        </p:nvGraphicFramePr>
        <p:xfrm>
          <a:off x="1928880" y="1500120"/>
          <a:ext cx="1278000" cy="350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9" name="Object 5" descr="">
                    <a:hlinkClick r:id="rId4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28880" y="1500120"/>
                    <a:ext cx="1278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8"/>
          <p:cNvGraphicFramePr/>
          <p:nvPr/>
        </p:nvGraphicFramePr>
        <p:xfrm>
          <a:off x="5500800" y="1571760"/>
          <a:ext cx="1181160" cy="2187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Object 8" descr="">
                    <a:hlinkClick r:id="rId7"/>
                  </p:cNvPr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0800" y="1571760"/>
                    <a:ext cx="1181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0"/>
          <p:cNvGraphicFramePr/>
          <p:nvPr/>
        </p:nvGraphicFramePr>
        <p:xfrm>
          <a:off x="6643800" y="2500200"/>
          <a:ext cx="1662120" cy="2238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63" name="Object 10" descr="">
                    <a:hlinkClick r:id="rId10"/>
                  </p:cNvPr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643800" y="2500200"/>
                    <a:ext cx="16621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Rectangle 11"/>
          <p:cNvSpPr/>
          <p:nvPr/>
        </p:nvSpPr>
        <p:spPr>
          <a:xfrm>
            <a:off x="4214880" y="4929120"/>
            <a:ext cx="49291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Кинетичка</a:t>
            </a:r>
            <a:r>
              <a:rPr b="1" lang="sr-Latn-C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Транс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2"/>
          <p:cNvSpPr/>
          <p:nvPr/>
        </p:nvSpPr>
        <p:spPr>
          <a:xfrm>
            <a:off x="62280" y="0"/>
            <a:ext cx="5432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купн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0"/>
          <p:cNvSpPr/>
          <p:nvPr/>
        </p:nvSpPr>
        <p:spPr>
          <a:xfrm>
            <a:off x="10080" y="4429080"/>
            <a:ext cx="19987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"/>
          <p:cNvSpPr/>
          <p:nvPr/>
        </p:nvSpPr>
        <p:spPr>
          <a:xfrm>
            <a:off x="5792760" y="1857240"/>
            <a:ext cx="1546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m g 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7500960" y="3643200"/>
            <a:ext cx="1643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10"/>
          <p:cNvSpPr/>
          <p:nvPr/>
        </p:nvSpPr>
        <p:spPr>
          <a:xfrm>
            <a:off x="3441600" y="1219320"/>
            <a:ext cx="249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oule = 1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1"/>
          <p:cNvSpPr/>
          <p:nvPr/>
        </p:nvSpPr>
        <p:spPr>
          <a:xfrm>
            <a:off x="2690280" y="185724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= 1 Nm = 1 kg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3026520" y="2643120"/>
            <a:ext cx="3391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½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3228840" y="571500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  <a:ea typeface="Arial"/>
              </a:rPr>
              <a:t>1 cal = 4.184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1567800" y="3429000"/>
            <a:ext cx="67197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икроск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акросопс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5"/>
          <p:cNvSpPr/>
          <p:nvPr/>
        </p:nvSpPr>
        <p:spPr>
          <a:xfrm>
            <a:off x="3245040" y="4214880"/>
            <a:ext cx="319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J vs. 1 kJ mo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6"/>
          <p:cNvSpPr/>
          <p:nvPr/>
        </p:nvSpPr>
        <p:spPr>
          <a:xfrm>
            <a:off x="2000160" y="214200"/>
            <a:ext cx="51818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SI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јединице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за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24000" y="214200"/>
            <a:ext cx="849600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нутрашњ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соб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ш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вис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ихов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оби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нутрашња енергија молекула, зависи од кретања атома унутар молекула и једнака је збиру кинтичке и потенцијалне енергије коју имају атоми унутар молеку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лекули своју енергију размењују сударајући с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4"/>
          <p:cNvSpPr/>
          <p:nvPr/>
        </p:nvSpPr>
        <p:spPr>
          <a:xfrm>
            <a:off x="642960" y="642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м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но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честиц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у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185724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2" descr=""/>
          <p:cNvPicPr/>
          <p:nvPr/>
        </p:nvPicPr>
        <p:blipFill>
          <a:blip r:embed="rId1"/>
          <a:stretch/>
        </p:blipFill>
        <p:spPr>
          <a:xfrm>
            <a:off x="571680" y="2500200"/>
            <a:ext cx="2180880" cy="14004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4" descr=""/>
          <p:cNvPicPr/>
          <p:nvPr/>
        </p:nvPicPr>
        <p:blipFill>
          <a:blip r:embed="rId2"/>
          <a:stretch/>
        </p:blipFill>
        <p:spPr>
          <a:xfrm>
            <a:off x="5786280" y="2214720"/>
            <a:ext cx="28670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68880" y="0"/>
            <a:ext cx="64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пренос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суда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"/>
          <p:cNvSpPr/>
          <p:nvPr/>
        </p:nvSpPr>
        <p:spPr>
          <a:xfrm>
            <a:off x="-214200" y="3286080"/>
            <a:ext cx="8762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ипов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5"/>
          <p:cNvSpPr/>
          <p:nvPr/>
        </p:nvSpPr>
        <p:spPr>
          <a:xfrm>
            <a:off x="2857680" y="3786120"/>
            <a:ext cx="32144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Еласти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ееластични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571680" y="5000760"/>
            <a:ext cx="819144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м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размењуј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само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кинетичк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еластични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да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промена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унутрашњ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нергије</a:t>
            </a:r>
            <a:r>
              <a:rPr b="0" lang="sl-SI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акон о сачувању енерг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68360" y="270828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а не може бити створена нити уништена она може само прећи из једног облика енергије у друг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2"/>
          <p:cNvSpPr/>
          <p:nvPr/>
        </p:nvSpPr>
        <p:spPr>
          <a:xfrm>
            <a:off x="0" y="0"/>
            <a:ext cx="7358040" cy="533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НЕКИ ОБЛИЦИ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sr-CS" sz="3000" spc="-1" strike="noStrike">
                <a:solidFill>
                  <a:srgbClr val="1f497d"/>
                </a:solidFill>
                <a:latin typeface="Arial"/>
                <a:ea typeface="Arial"/>
              </a:rPr>
              <a:t>ЕНЕРГИЈЕ:</a:t>
            </a:r>
            <a:r>
              <a:rPr b="1" lang="en-US" sz="30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0" y="928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инетич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4"/>
          <p:cNvSpPr/>
          <p:nvPr/>
        </p:nvSpPr>
        <p:spPr>
          <a:xfrm>
            <a:off x="3000240" y="64296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ом се крећу микроскопски и макроскопски објек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0" y="2071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зраче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6"/>
          <p:cNvSpPr/>
          <p:nvPr/>
        </p:nvSpPr>
        <p:spPr>
          <a:xfrm>
            <a:off x="3000240" y="1857240"/>
            <a:ext cx="6143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фотона (светлости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оларна 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 = h 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 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ланкова константа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0" y="32148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отенциј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3000240" y="3214800"/>
            <a:ext cx="5715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зи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бјек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mgh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h=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син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0" y="478620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Термалн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071880" y="4500720"/>
            <a:ext cx="6072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 која је повезана са хаотичним кретањима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kin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= ½ M v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= 3/2 R T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= 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5996160"/>
            <a:ext cx="3048120" cy="855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3000240" y="607212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ер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250920" y="189000"/>
            <a:ext cx="8497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ом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сполаж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цим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меш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ензинск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аздух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утомобил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оде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ар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окој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в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кумулатор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батер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уклеарн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еактор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Људ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ов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рест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следиц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ск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згро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атом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унутрашњ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ергију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1116000" y="4689360"/>
            <a:ext cx="2879640" cy="5050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250920" y="0"/>
            <a:ext cx="87138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Основне јединице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Дужин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m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растојање које пређе светлост у вакуму у току времена 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/299 792 548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Врем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је време за које се догоди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 192 631 770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ериодичних вибрација које емитује атом цезијум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133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томски часов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Маса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илогра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kg)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се дефинише као маса специфичног цилиндра легуре платине и иридијума која се чува у Интернационалном бироу за мере и драгоцености у Француско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5500800" cy="6591240"/>
        </p:xfrm>
        <a:graphic>
          <a:graphicData uri="http://schemas.openxmlformats.org/drawingml/2006/table">
            <a:tbl>
              <a:tblPr/>
              <a:tblGrid>
                <a:gridCol w="2357280"/>
                <a:gridCol w="1768680"/>
                <a:gridCol w="1374840"/>
              </a:tblGrid>
              <a:tr h="5184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стем 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чка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зн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уж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а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логра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у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лв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ина супстанц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труј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Јачина светл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д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Picture 72" descr=""/>
          <p:cNvPicPr/>
          <p:nvPr/>
        </p:nvPicPr>
        <p:blipFill>
          <a:blip r:embed="rId1"/>
          <a:srcRect l="0" t="0" r="8609" b="9998"/>
          <a:stretch/>
        </p:blipFill>
        <p:spPr>
          <a:xfrm>
            <a:off x="5545080" y="0"/>
            <a:ext cx="359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305920" cy="35877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53640" y="632448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000000"/>
                </a:solidFill>
                <a:latin typeface="Brush Script MT"/>
                <a:ea typeface="Arial"/>
              </a:rPr>
              <a:t>подсе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1714680" y="1285920"/>
            <a:ext cx="4572000" cy="39290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282240" y="5572080"/>
            <a:ext cx="85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КОЈЕ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ЛАСТИ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ВЕЛИЧИН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ОБУХВАТ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ff0000"/>
                </a:solidFill>
                <a:latin typeface="Arial"/>
              </a:rPr>
              <a:t>ФАРМАЦИЈА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0"/>
            <a:ext cx="885816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ко су велики молекули леко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иниц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нгстрем и намометар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A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nm =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9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m = 10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ђумолекулска растојања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C-H ~ 1A, C-C ~1.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али молекули леков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7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кови из природних произв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A - 15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ијаметар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DNA :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2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теински леков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тите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ска мест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A to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олошке мембране  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0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100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HIV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ирус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~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1000A = 100nM ( 0.1 μm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i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он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 = 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6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актерија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Arial"/>
              </a:rPr>
              <a:t> 1-10 μm 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видљива под микроскоп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црвена крвна зрнац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≡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уклеус типичне еукараиотске ћел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 6-8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0"/>
            <a:ext cx="914400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ОСНОВНИ ЕЛЕМЕНТИ КИНЕМАТИКЕ : БР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општ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рактерист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прекид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тер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одвојив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ханичк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ета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ђусоб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изичка величина која описује кретање је брз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екат кретања је све што мења свој положај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 flipV="1">
            <a:off x="3495600" y="45324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5"/>
          <p:cNvSpPr/>
          <p:nvPr/>
        </p:nvSpPr>
        <p:spPr>
          <a:xfrm>
            <a:off x="6175440" y="4846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6394320" y="5045040"/>
            <a:ext cx="378000" cy="2746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862344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 flipH="1">
            <a:off x="831528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238560" y="63514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0"/>
          <p:cNvSpPr/>
          <p:nvPr/>
        </p:nvSpPr>
        <p:spPr>
          <a:xfrm flipH="1" flipV="1">
            <a:off x="2855520" y="607176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7531200" y="45734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H="1" flipV="1">
            <a:off x="7148160" y="4293720"/>
            <a:ext cx="37620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5837400" y="6248520"/>
            <a:ext cx="212400" cy="1936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4"/>
          <p:cNvSpPr/>
          <p:nvPr/>
        </p:nvSpPr>
        <p:spPr>
          <a:xfrm flipV="1">
            <a:off x="6056280" y="5900760"/>
            <a:ext cx="3016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5"/>
          <p:cNvSpPr/>
          <p:nvPr/>
        </p:nvSpPr>
        <p:spPr>
          <a:xfrm>
            <a:off x="5008680" y="604368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H="1">
            <a:off x="4700520" y="6242040"/>
            <a:ext cx="301680" cy="3430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4781520" y="495000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 flipH="1">
            <a:off x="4474800" y="514836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9"/>
          <p:cNvSpPr/>
          <p:nvPr/>
        </p:nvSpPr>
        <p:spPr>
          <a:xfrm>
            <a:off x="6966000" y="5838840"/>
            <a:ext cx="21420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7186680" y="6037200"/>
            <a:ext cx="299880" cy="3412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1"/>
          <p:cNvSpPr/>
          <p:nvPr/>
        </p:nvSpPr>
        <p:spPr>
          <a:xfrm>
            <a:off x="5045040" y="4368960"/>
            <a:ext cx="21420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5265720" y="4567320"/>
            <a:ext cx="376200" cy="272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3"/>
          <p:cNvSpPr/>
          <p:nvPr/>
        </p:nvSpPr>
        <p:spPr>
          <a:xfrm>
            <a:off x="8661240" y="539424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4"/>
          <p:cNvSpPr/>
          <p:nvPr/>
        </p:nvSpPr>
        <p:spPr>
          <a:xfrm flipV="1">
            <a:off x="8842320" y="5148360"/>
            <a:ext cx="301680" cy="2728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5"/>
          <p:cNvSpPr/>
          <p:nvPr/>
        </p:nvSpPr>
        <p:spPr>
          <a:xfrm flipH="1" flipV="1">
            <a:off x="8842320" y="4874760"/>
            <a:ext cx="301680" cy="27324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6508800" y="6448320"/>
            <a:ext cx="74520" cy="409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 flipV="1">
            <a:off x="6583320" y="6448320"/>
            <a:ext cx="225360" cy="409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 flipH="1" flipV="1">
            <a:off x="2666520" y="5284800"/>
            <a:ext cx="752760" cy="4111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 flipV="1">
            <a:off x="2666880" y="4806720"/>
            <a:ext cx="452520" cy="477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0"/>
          <p:cNvSpPr/>
          <p:nvPr/>
        </p:nvSpPr>
        <p:spPr>
          <a:xfrm>
            <a:off x="8153280" y="46530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 flipV="1">
            <a:off x="8372520" y="4303800"/>
            <a:ext cx="301680" cy="342720"/>
          </a:xfrm>
          <a:prstGeom prst="line">
            <a:avLst/>
          </a:prstGeom>
          <a:ln w="12600">
            <a:solidFill>
              <a:srgbClr val="cf0e3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32"/>
          <p:cNvSpPr/>
          <p:nvPr/>
        </p:nvSpPr>
        <p:spPr>
          <a:xfrm>
            <a:off x="3389400" y="5599080"/>
            <a:ext cx="212760" cy="19224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33"/>
          <p:cNvSpPr/>
          <p:nvPr/>
        </p:nvSpPr>
        <p:spPr>
          <a:xfrm>
            <a:off x="3276720" y="4881600"/>
            <a:ext cx="212760" cy="191880"/>
          </a:xfrm>
          <a:prstGeom prst="ellipse">
            <a:avLst/>
          </a:prstGeom>
          <a:solidFill>
            <a:srgbClr val="cf0e30"/>
          </a:solidFill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35"/>
          <p:cNvSpPr/>
          <p:nvPr/>
        </p:nvSpPr>
        <p:spPr>
          <a:xfrm>
            <a:off x="4005000" y="5286240"/>
            <a:ext cx="484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то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леку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36"/>
          <p:cNvSpPr/>
          <p:nvPr/>
        </p:nvSpPr>
        <p:spPr>
          <a:xfrm>
            <a:off x="436680" y="47149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Макр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вет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2"/>
          <p:cNvGraphicFramePr/>
          <p:nvPr/>
        </p:nvGraphicFramePr>
        <p:xfrm>
          <a:off x="357120" y="5572080"/>
          <a:ext cx="1643040" cy="6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5572080"/>
                    <a:ext cx="1643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Object 3"/>
              <p:cNvSpPr txBox="1"/>
              <p:nvPr/>
            </p:nvSpPr>
            <p:spPr>
              <a:xfrm>
                <a:off x="6016680" y="2928960"/>
                <a:ext cx="27241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"/>
              <p:cNvSpPr txBox="1"/>
              <p:nvPr/>
            </p:nvSpPr>
            <p:spPr>
              <a:xfrm>
                <a:off x="6072120" y="4451400"/>
                <a:ext cx="27558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Box 3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снов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мо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с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ханич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ТОЈАЊ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и ВРЕМЕ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6"/>
          <p:cNvGrpSpPr/>
          <p:nvPr/>
        </p:nvGrpSpPr>
        <p:grpSpPr>
          <a:xfrm>
            <a:off x="292320" y="2736720"/>
            <a:ext cx="5804640" cy="3269520"/>
            <a:chOff x="292320" y="2736720"/>
            <a:chExt cx="5804640" cy="3269520"/>
          </a:xfrm>
        </p:grpSpPr>
        <p:sp>
          <p:nvSpPr>
            <p:cNvPr id="185" name="Oval 3"/>
            <p:cNvSpPr/>
            <p:nvPr/>
          </p:nvSpPr>
          <p:spPr>
            <a:xfrm>
              <a:off x="1555560" y="4681440"/>
              <a:ext cx="419040" cy="33804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Straight Arrow Connector 6"/>
            <p:cNvCxnSpPr/>
            <p:nvPr/>
          </p:nvCxnSpPr>
          <p:spPr>
            <a:xfrm flipH="1" flipV="1">
              <a:off x="1075320" y="2835720"/>
              <a:ext cx="60840" cy="25426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87" name="Straight Arrow Connector 8"/>
            <p:cNvCxnSpPr/>
            <p:nvPr/>
          </p:nvCxnSpPr>
          <p:spPr>
            <a:xfrm>
              <a:off x="1136160" y="5279760"/>
              <a:ext cx="479340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188" name="Rectangle 18"/>
            <p:cNvSpPr/>
            <p:nvPr/>
          </p:nvSpPr>
          <p:spPr>
            <a:xfrm>
              <a:off x="5373720" y="5286240"/>
              <a:ext cx="723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, 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7"/>
            <p:cNvSpPr/>
            <p:nvPr/>
          </p:nvSpPr>
          <p:spPr>
            <a:xfrm>
              <a:off x="292320" y="273672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2"/>
            <p:cNvSpPr/>
            <p:nvPr/>
          </p:nvSpPr>
          <p:spPr>
            <a:xfrm>
              <a:off x="4610160" y="3484440"/>
              <a:ext cx="420480" cy="3394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>
              <a:off x="715680" y="4880160"/>
              <a:ext cx="13190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16"/>
            <p:cNvSpPr/>
            <p:nvPr/>
          </p:nvSpPr>
          <p:spPr>
            <a:xfrm>
              <a:off x="1764360" y="4681440"/>
              <a:ext cx="29880" cy="7970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17"/>
            <p:cNvSpPr/>
            <p:nvPr/>
          </p:nvSpPr>
          <p:spPr>
            <a:xfrm flipH="1">
              <a:off x="4789440" y="3584520"/>
              <a:ext cx="1440" cy="194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Straight Connector 19"/>
            <p:cNvSpPr/>
            <p:nvPr/>
          </p:nvSpPr>
          <p:spPr>
            <a:xfrm>
              <a:off x="715680" y="3633480"/>
              <a:ext cx="425448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8"/>
            <p:cNvSpPr/>
            <p:nvPr/>
          </p:nvSpPr>
          <p:spPr>
            <a:xfrm>
              <a:off x="1363680" y="5286240"/>
              <a:ext cx="3452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8"/>
            <p:cNvSpPr/>
            <p:nvPr/>
          </p:nvSpPr>
          <p:spPr>
            <a:xfrm>
              <a:off x="4793040" y="5357520"/>
              <a:ext cx="3589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sr-Latn-CS" sz="3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4"/>
            <p:cNvSpPr/>
            <p:nvPr/>
          </p:nvSpPr>
          <p:spPr>
            <a:xfrm>
              <a:off x="423000" y="4730760"/>
              <a:ext cx="404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5"/>
            <p:cNvSpPr/>
            <p:nvPr/>
          </p:nvSpPr>
          <p:spPr>
            <a:xfrm>
              <a:off x="423360" y="3384720"/>
              <a:ext cx="4168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r>
                <a:rPr b="0" lang="sr-Latn-CS" sz="2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1586880" y="46310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4642560" y="34844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1" name="Straight Arrow Connector 30"/>
            <p:cNvCxnSpPr/>
            <p:nvPr/>
          </p:nvCxnSpPr>
          <p:spPr>
            <a:xfrm flipV="1">
              <a:off x="2274480" y="3833280"/>
              <a:ext cx="2037240" cy="797760"/>
            </a:xfrm>
            <a:prstGeom prst="straightConnector1">
              <a:avLst/>
            </a:prstGeom>
            <a:ln w="9360">
              <a:solidFill>
                <a:srgbClr val="4f81bd"/>
              </a:solidFill>
              <a:prstDash val="lgDash"/>
              <a:miter/>
              <a:tailEnd len="med" type="arrow" w="med"/>
            </a:ln>
          </p:spPr>
        </p:cxnSp>
        <p:sp>
          <p:nvSpPr>
            <p:cNvPr id="202" name="Right Brace 33"/>
            <p:cNvSpPr/>
            <p:nvPr/>
          </p:nvSpPr>
          <p:spPr>
            <a:xfrm rot="5400000">
              <a:off x="3043440" y="4080600"/>
              <a:ext cx="498240" cy="2995560"/>
            </a:xfrm>
            <a:custGeom>
              <a:avLst/>
              <a:gdLst>
                <a:gd name="textAreaLeft" fmla="*/ 0 w 498240"/>
                <a:gd name="textAreaRight" fmla="*/ 180000 w 498240"/>
                <a:gd name="textAreaTop" fmla="*/ 15480 h 2995560"/>
                <a:gd name="textAreaBottom" fmla="*/ 2980080 h 2995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80"/>
                    <a:pt x="10800" y="360"/>
                  </a:cubicBezTo>
                  <a:lnTo>
                    <a:pt x="10800" y="9979"/>
                  </a:lnTo>
                  <a:cubicBezTo>
                    <a:pt x="10800" y="10159"/>
                    <a:pt x="16200" y="10339"/>
                    <a:pt x="21600" y="10339"/>
                  </a:cubicBezTo>
                  <a:cubicBezTo>
                    <a:pt x="16200" y="10339"/>
                    <a:pt x="10800" y="10519"/>
                    <a:pt x="10800" y="10699"/>
                  </a:cubicBezTo>
                  <a:lnTo>
                    <a:pt x="10800" y="21240"/>
                  </a:lnTo>
                  <a:cubicBezTo>
                    <a:pt x="10800" y="2142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ight Brace 35"/>
            <p:cNvSpPr/>
            <p:nvPr/>
          </p:nvSpPr>
          <p:spPr>
            <a:xfrm rot="10800000">
              <a:off x="596520" y="3633480"/>
              <a:ext cx="598320" cy="1246320"/>
            </a:xfrm>
            <a:custGeom>
              <a:avLst/>
              <a:gdLst>
                <a:gd name="textAreaLeft" fmla="*/ 0 w 598320"/>
                <a:gd name="textAreaRight" fmla="*/ 216000 w 598320"/>
                <a:gd name="textAreaTop" fmla="*/ 12960 h 1246320"/>
                <a:gd name="textAreaBottom" fmla="*/ 1233360 h 12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60"/>
                    <a:pt x="10800" y="719"/>
                  </a:cubicBezTo>
                  <a:lnTo>
                    <a:pt x="10800" y="9620"/>
                  </a:lnTo>
                  <a:cubicBezTo>
                    <a:pt x="10800" y="9980"/>
                    <a:pt x="16200" y="10339"/>
                    <a:pt x="21600" y="10339"/>
                  </a:cubicBezTo>
                  <a:cubicBezTo>
                    <a:pt x="16200" y="10339"/>
                    <a:pt x="10800" y="10699"/>
                    <a:pt x="10800" y="11058"/>
                  </a:cubicBezTo>
                  <a:lnTo>
                    <a:pt x="10800" y="20881"/>
                  </a:lnTo>
                  <a:cubicBezTo>
                    <a:pt x="10800" y="21241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Rectangle 18"/>
          <p:cNvSpPr/>
          <p:nvPr/>
        </p:nvSpPr>
        <p:spPr>
          <a:xfrm>
            <a:off x="3076200" y="56656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3960" y="3951360"/>
            <a:ext cx="63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9"/>
          <p:cNvSpPr/>
          <p:nvPr/>
        </p:nvSpPr>
        <p:spPr>
          <a:xfrm>
            <a:off x="0" y="1357200"/>
            <a:ext cx="91440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асто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ож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ру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ач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ретањ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мерај = промена положаја у интервалу вре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чет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i="1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 почетку у 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i="1" lang="sr-Latn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начни положа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у времену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"/>
              <p:cNvSpPr txBox="1"/>
              <p:nvPr/>
            </p:nvSpPr>
            <p:spPr>
              <a:xfrm>
                <a:off x="285840" y="6226200"/>
                <a:ext cx="19922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8" name="Rectangle 21"/>
          <p:cNvSpPr/>
          <p:nvPr/>
        </p:nvSpPr>
        <p:spPr>
          <a:xfrm>
            <a:off x="4143240" y="5869080"/>
            <a:ext cx="45720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вал време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 = 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−t</a:t>
            </a:r>
            <a:r>
              <a:rPr b="0" i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2"/>
          <p:cNvSpPr/>
          <p:nvPr/>
        </p:nvSpPr>
        <p:spPr>
          <a:xfrm>
            <a:off x="13320" y="600084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положа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43"/>
          <p:cNvSpPr/>
          <p:nvPr/>
        </p:nvSpPr>
        <p:spPr>
          <a:xfrm>
            <a:off x="6643800" y="4071960"/>
            <a:ext cx="157140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1"/>
          <p:cNvSpPr/>
          <p:nvPr/>
        </p:nvSpPr>
        <p:spPr>
          <a:xfrm>
            <a:off x="5220720" y="40719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БР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04:55:00Z</dcterms:created>
  <dc:creator>Vera Dondur</dc:creator>
  <dc:description/>
  <dc:language>en-US</dc:language>
  <cp:lastModifiedBy>Snezana Jovanovic</cp:lastModifiedBy>
  <dcterms:modified xsi:type="dcterms:W3CDTF">2023-09-05T06:25:09Z</dcterms:modified>
  <cp:revision>154</cp:revision>
  <dc:subject/>
  <dc:title>Brzina, ubrzanje, sila, rad, energija</dc:title>
</cp:coreProperties>
</file>